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068B-BF45-40CD-82BF-3E0DA87A11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2171-0E87-4920-827C-39D6610B71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9B78DA-86BA-4C17-BCFF-23E2EAD7DB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C608-D382-47DA-831B-BD52A69636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ED9E-9B59-45D8-8C50-629FA54E46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16C8-7EB3-425C-95CA-D60B5B3E17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53BA-3F5A-48C1-A900-57F5717420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597F-2A91-4A75-9F09-6281DFFF8C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F6EE-A42C-4BDC-BE0A-C6246609EA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382-D36C-4CC6-BB7B-AC746E53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8BC-CE59-4E66-89DA-AD6767DD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D75-226C-4CFC-8811-BA8C0AEA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971-6616-457C-9EE7-8D293BD7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8478-E76F-4DE4-965D-03BEC070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DBC-6B6E-4AE6-8DD4-6ABE9C3D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A05-3406-4C58-B534-E06FC73F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7FD-A1CC-4AEF-81B2-0E1E8AB3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F26-91E6-4E9C-93A9-5813D476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37F-FCBA-44D3-8BEC-7EC4068F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D88-41FF-4622-906C-3169B8CC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732-A088-4C28-A910-38ED8E44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85E1-F2B8-4261-984C-DF17F0C539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Елена Александровна Бронникова</cp:lastModifiedBy>
  <cp:lastPrinted>2020-12-02T13:30:30Z</cp:lastPrinted>
  <dcterms:modified xsi:type="dcterms:W3CDTF">2020-12-09T01:52:18Z</dcterms:modified>
  <cp:revision>514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