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794B-6A49-442B-805D-BCBC9FDCE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C8BC-65E9-497F-B019-E52CAAABC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10FB-D2D2-460A-A5A1-471357607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CB8-37C2-4C64-877B-DD39E987D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9ADD-FBDE-448B-A3E6-AD2313A03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E5B2-E711-47CA-BAB2-B9D09E78D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A9D5-E448-4736-85C7-3FDBF9A55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A8F7-0F06-4471-8033-4CC9EADDC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92F0-7CFA-4AB8-98D4-04CC261C0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5445-F5B4-412D-A1D6-8DA3E6906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4E7E-31B5-4565-B90E-E818A76D1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CAB-B319-4F61-A2C9-CD504B3DF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F49D-5E3F-4517-BD1A-FE6977CEA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C472-5C5C-4DD5-88BA-802737C5E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FFEF-BF53-4981-94E9-86192A308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357B-1C39-4BF9-82CB-3076AB96B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C15F-2898-4D3E-AAE0-3368B63F8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F2B-8F23-4D2D-AD5A-B76AADA87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1999-EEF8-40B2-8A97-BC5FA41E9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BDC4-F718-4ADE-B6BB-2176BADAE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78F7-F2EF-40AF-B6F8-F0138CA5F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F946-043C-429E-A68A-047BA5425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A09B-3A01-4EBA-9DD2-529E86AEC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B2C9-7005-47B1-B666-6694006E6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F24C-1849-4AF2-89BA-6CA59E0C9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007B-EF5C-489E-9767-FF33198E0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5AEB-DFE3-455A-A50F-17701A253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9A39-8C66-4DAF-A6AF-4B2F2C83F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12DB-C478-4B0A-96EE-6572D4314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5FFB-C564-4FD6-A4E2-0FA70BAB1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196B-6810-43B5-B689-57E250CB5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28DD-685C-4470-B6D3-58D855443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B7AA-9FC2-40CE-8CA3-D50282E4B5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9AA5-FD72-4E19-A770-AFA10623C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300B-D3D6-4020-AE61-8F71B69B9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AD8A-2723-430B-9C82-E72D7594B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3E2B-4CD4-4FE2-90CF-9E0CAB622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9B94-FA4F-4DD3-99BD-C5A266D7D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5BF0-F55D-4CE3-97A3-330BF3E5E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6CF-E8C8-43BD-BDFA-B35BC92A9A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F68B-A614-4A2E-B8D7-28169AC11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3853-7D20-4DCF-95A4-DC72C0F54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19BB-D8BE-4337-9B07-7962A03683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F63E-B989-4494-BF54-BDB90130F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2523-AC3C-4797-9C11-1996017A7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CB9-3A7D-4CFD-B7A5-16E2B5BE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DE7-3696-48FE-B2D8-435BB832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4B3-5C3A-4DB9-B651-DB007F20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5B8-A0B9-4166-8D6D-D1BF5BF7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331-08F1-4EFB-910A-0E699119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6ED-64DE-42C1-9877-56688C78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635-BCA6-40C5-B10C-73518134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F16-E232-4E52-93F0-100BE9B1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C39-188D-4FB6-BD52-AD1D3289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40D-AE7C-4501-B9CD-59ED1351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B2C-EC62-48CE-8149-837A37D3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6C8-2503-416D-89FF-52128039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B7F4-56BC-4CE9-8CC8-2784637A68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Елена Александровна Бронникова</cp:lastModifiedBy>
  <cp:lastPrinted>2020-12-02T13:53:05Z</cp:lastPrinted>
  <dcterms:modified xsi:type="dcterms:W3CDTF">2020-12-09T01:39:18Z</dcterms:modified>
  <cp:revision>379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