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677D-7668-48A4-AD75-B4F8CCECD5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71FB-49E3-4293-A55B-D9ED24B722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C58-5C78-4482-9D10-2ED5A8CA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EFC-99E4-485D-B13A-92B7F083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83F-3797-4731-BC27-9C8C012C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7AB-81FC-4D58-9230-6B45D498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0A18-D2CA-4FAB-BA3A-170C29D3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4127-1528-45C6-8998-8F322DFB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C096-ED78-4015-9FC3-1BA34DF3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7B7C-F138-43C8-BFEF-C55245ED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7211-45F5-4A92-82D2-BD264CC9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B6C7-B7D4-417D-B268-24408323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430E-1DA1-42BE-8F2D-3E188AB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E72-2E0D-406D-A97D-1C596CF1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BCBC-79F0-4C83-859E-2748ACFF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8163-56A8-461D-9880-7CE2932C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9CDA-DC50-4024-9B28-1D5D80F0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F87D-9E3C-4D60-A092-655C9E49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FC6B-48F0-4907-846E-900DBB6B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26979-853D-44E9-B753-19795C3E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0B536-931B-449A-BA49-D3D35C95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7441B-A8DF-4A02-91BC-0012A286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DC596-15E9-4652-BBF4-D4A39418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EBD6F-0C8F-439C-AF4F-24522B2C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215-9BB8-437C-9057-F5F8B403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270EB-C253-459C-AB3E-7708E68D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406D2-954B-4DC5-B960-E16A3854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F5C78-BD51-4D59-BE45-3FF3CF76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5FB91-FD4A-40AE-8AEF-786C408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C83F7-A61C-4D2E-9391-6721D12C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996F7-A1D8-468F-BBFE-FECF18B5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9D2B3-BC03-4043-BFD4-AD6F5D9B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5DBFCE-3AAF-4248-AD1F-7032C77A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DD06A-DF40-448A-9FE3-111D91AF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FA04F-20F6-45D5-8F0E-98584219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0B9-1DEF-43C0-9405-38F727FB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3351F-20AB-40DF-A79C-E6A40F27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D16A8-21D4-43F6-945E-78271799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5C1C4-6354-4C09-8821-47383849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B9EE5-0D4E-404E-893B-B8FF7ACC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4705F-AA31-4A6F-99CC-78A33999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6C42A-4164-4903-8793-2F79648E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7DADD-CF21-41B0-A777-F0563683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C0086-E6ED-4093-9B98-F8CB8742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FE025-7026-42D8-9097-DE50363E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B4E-A126-427A-98F6-516AB573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9CF-DCA5-44BB-A229-009C52E0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4F0-8F27-40C7-AC00-D2D6079F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2F2-241E-49B6-8CEC-D81F2911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2D2-7205-4CA6-A56B-06A7E866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12CC-D55E-4188-B17C-0C7EDA4327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B03F-54F3-4E3A-8E4C-28B90847B9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C80D-F62A-47F9-BB15-30CF82A3AD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7B04-7006-4280-9D0E-239E2D30E1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Елена Александровна Бронникова</cp:lastModifiedBy>
  <cp:lastPrinted>2017-12-07T17:18:35Z</cp:lastPrinted>
  <dcterms:modified xsi:type="dcterms:W3CDTF">2020-12-09T01:10:46Z</dcterms:modified>
  <cp:revision>802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