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3DB8-9690-4D12-B795-54A59867FA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9E49-61FA-4B5B-85D9-7B878CB96AF1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7F7F-C608-41E2-8424-851D995487E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46D6-C9F4-4F63-B36C-F4CEFE9D16F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5E9D-18D7-42BB-844C-36008B616E2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7910-488C-4443-85BF-3D64549FE79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7CD5-389F-47E3-AEEB-B34D80E6A1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C75-054F-4F76-9AC0-5E3609BE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FC3-7F0C-4D50-B912-25909EA0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30A-3765-43E9-A0EF-77B250AA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FCF-094C-47F1-A43A-482F2E10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A8F-CE16-4B0F-A3DD-DAA59E4C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9CD-FAFC-4EC5-83CF-8B7D9803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608-3239-4620-8805-522EE98B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F5C-2958-49BA-AEE4-AB386476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638-7384-4F75-95F6-7DC61AC5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1E3-B174-475B-9975-0F125D84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331-FF26-4D83-9D1F-63D4F7ED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86D-425E-4791-8E5E-23E71FEA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FD7F-82FD-4AD1-9567-610B2E8DA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94040"/>
            <a:ext cx="8480520" cy="366840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2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Елена Александровна Бронникова</cp:lastModifiedBy>
  <cp:lastPrinted>2018-12-10T14:36:03Z</cp:lastPrinted>
  <dcterms:modified xsi:type="dcterms:W3CDTF">2020-12-09T01:47:18Z</dcterms:modified>
  <cp:revision>126</cp:revision>
  <dc:subject/>
  <dc:title>Презентация PowerPoint</dc:title>
</cp:coreProperties>
</file>