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16E1-EAD3-4B8A-AEF4-CE1DA546DF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6288-4F65-4B74-ABD6-97DAA3FC3E7A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D380-0D51-446B-8C5D-7FB9C686829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E4DC-2CC3-4588-9C4B-01D932DE1A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30AF-21B4-4F85-ABA3-FECCAED9EE4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506C-384F-4F99-93CF-8BED45F84C7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D83F-2869-4845-B60B-95E5D419AD9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6610-A157-4F7F-AD39-B3762FF6BD2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BAE-611A-4791-A925-5746D555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AB3-49BB-4FEF-911E-F1845CE8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141-FA58-4D44-A981-DDB7C1DF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A3A-17C9-44C6-9CBF-8A15A49F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AF4-EDC4-49D7-9B53-5DC63079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089-8AF9-49C4-8D7D-D33CA855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0F6-0C2B-4810-9982-D755CFB0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661-6802-4017-9409-E3FF19D7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AEF-A1E7-4ACC-97D9-1D6F1036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39A-D0D3-4CD0-A530-A5794370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3F5-D9D0-4DE7-8A92-D64E946D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B2B-EE4D-485E-A5D3-5342DF3F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F0EF-BC53-4796-834C-A99A3D7CE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  <p:pic>
        <p:nvPicPr>
          <p:cNvPr id="89" name="Группа 8" descr=""/>
          <p:cNvPicPr/>
          <p:nvPr/>
        </p:nvPicPr>
        <p:blipFill>
          <a:blip r:embed="rId3"/>
          <a:stretch/>
        </p:blipFill>
        <p:spPr>
          <a:xfrm>
            <a:off x="1474920" y="4932360"/>
            <a:ext cx="53276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1" name="Группа 13"/>
          <p:cNvGrpSpPr/>
          <p:nvPr/>
        </p:nvGrpSpPr>
        <p:grpSpPr>
          <a:xfrm>
            <a:off x="727200" y="2093760"/>
            <a:ext cx="10101240" cy="4326120"/>
            <a:chOff x="727200" y="2093760"/>
            <a:chExt cx="10101240" cy="4326120"/>
          </a:xfrm>
        </p:grpSpPr>
        <p:pic>
          <p:nvPicPr>
            <p:cNvPr id="92" name="Схема 2" descr=""/>
            <p:cNvPicPr/>
            <p:nvPr/>
          </p:nvPicPr>
          <p:blipFill>
            <a:blip r:embed="rId1"/>
            <a:stretch/>
          </p:blipFill>
          <p:spPr>
            <a:xfrm>
              <a:off x="727200" y="2093760"/>
              <a:ext cx="1010124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5"/>
            <p:cNvSpPr/>
            <p:nvPr/>
          </p:nvSpPr>
          <p:spPr>
            <a:xfrm>
              <a:off x="944640" y="274716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7"/>
            <p:cNvSpPr/>
            <p:nvPr/>
          </p:nvSpPr>
          <p:spPr>
            <a:xfrm>
              <a:off x="1198800" y="396828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12"/>
            <p:cNvSpPr/>
            <p:nvPr/>
          </p:nvSpPr>
          <p:spPr>
            <a:xfrm>
              <a:off x="1362960" y="529668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6"/>
          <p:cNvSpPr/>
          <p:nvPr/>
        </p:nvSpPr>
        <p:spPr>
          <a:xfrm>
            <a:off x="1125360" y="26827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1444680" y="40053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1144440" y="529128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2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103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1" name="Группа 13"/>
          <p:cNvGrpSpPr/>
          <p:nvPr/>
        </p:nvGrpSpPr>
        <p:grpSpPr>
          <a:xfrm>
            <a:off x="947880" y="852480"/>
            <a:ext cx="7958160" cy="4956120"/>
            <a:chOff x="947880" y="852480"/>
            <a:chExt cx="7958160" cy="4956120"/>
          </a:xfrm>
        </p:grpSpPr>
        <p:pic>
          <p:nvPicPr>
            <p:cNvPr id="112" name="Схема 2" descr=""/>
            <p:cNvPicPr/>
            <p:nvPr/>
          </p:nvPicPr>
          <p:blipFill>
            <a:blip r:embed="rId1"/>
            <a:stretch/>
          </p:blipFill>
          <p:spPr>
            <a:xfrm>
              <a:off x="947880" y="852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5"/>
            <p:cNvSpPr/>
            <p:nvPr/>
          </p:nvSpPr>
          <p:spPr>
            <a:xfrm>
              <a:off x="1504800" y="15318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7"/>
            <p:cNvSpPr/>
            <p:nvPr/>
          </p:nvSpPr>
          <p:spPr>
            <a:xfrm>
              <a:off x="1973160" y="310248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2"/>
            <p:cNvSpPr/>
            <p:nvPr/>
          </p:nvSpPr>
          <p:spPr>
            <a:xfrm>
              <a:off x="1567800" y="457956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Прямоугольник 11"/>
          <p:cNvSpPr/>
          <p:nvPr/>
        </p:nvSpPr>
        <p:spPr>
          <a:xfrm>
            <a:off x="2452680" y="3792600"/>
            <a:ext cx="77979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«Карту донесения о случае материнской смерти», учетная форма №003/у-МС утверждена приказом Минздрава России от 20 октября 2020 г. № 1130 н «Об утверждении Порядка оказания медицинской помощи по профилю «акушерство и гинекология», скрыв персональ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9" name="Прямоугольная выноска 3"/>
          <p:cNvSpPr/>
          <p:nvPr/>
        </p:nvSpPr>
        <p:spPr>
          <a:xfrm>
            <a:off x="6411960" y="1658880"/>
            <a:ext cx="54054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1000 число медицинских абортов включает число медицинских абортов легальных (по желанию женщины) и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3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ая выноска 9"/>
          <p:cNvSpPr/>
          <p:nvPr/>
        </p:nvSpPr>
        <p:spPr>
          <a:xfrm>
            <a:off x="7432560" y="3616200"/>
            <a:ext cx="4384800" cy="1608120"/>
          </a:xfrm>
          <a:prstGeom prst="wedgeRectCallout">
            <a:avLst>
              <a:gd name="adj1" fmla="val -61574"/>
              <a:gd name="adj2" fmla="val 89527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(О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ая выноска 10"/>
          <p:cNvSpPr/>
          <p:nvPr/>
        </p:nvSpPr>
        <p:spPr>
          <a:xfrm>
            <a:off x="4444920" y="2654280"/>
            <a:ext cx="1841760" cy="1101600"/>
          </a:xfrm>
          <a:prstGeom prst="wedgeRectCallout">
            <a:avLst>
              <a:gd name="adj1" fmla="val 84083"/>
              <a:gd name="adj2" fmla="val 24137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13т1000г4ст4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с 12 до 2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 по медицинским показан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7" name="Прямоугольная выноска 3"/>
          <p:cNvSpPr/>
          <p:nvPr/>
        </p:nvSpPr>
        <p:spPr>
          <a:xfrm>
            <a:off x="6442200" y="1547640"/>
            <a:ext cx="54036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2000 указывается только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2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1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3" name="Прямоугольная выноска 3"/>
          <p:cNvSpPr/>
          <p:nvPr/>
        </p:nvSpPr>
        <p:spPr>
          <a:xfrm>
            <a:off x="7275600" y="1320840"/>
            <a:ext cx="4776840" cy="1714320"/>
          </a:xfrm>
          <a:prstGeom prst="wedgeRectCallout">
            <a:avLst>
              <a:gd name="adj1" fmla="val -80245"/>
              <a:gd name="adj2" fmla="val 232912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(О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7" name="Овал 6"/>
          <p:cNvSpPr/>
          <p:nvPr/>
        </p:nvSpPr>
        <p:spPr>
          <a:xfrm>
            <a:off x="5473800" y="599436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9" name="Прямоугольная выноска 3"/>
          <p:cNvSpPr/>
          <p:nvPr/>
        </p:nvSpPr>
        <p:spPr>
          <a:xfrm>
            <a:off x="7275600" y="1287360"/>
            <a:ext cx="4776840" cy="2427480"/>
          </a:xfrm>
          <a:prstGeom prst="wedgeRectCallout">
            <a:avLst>
              <a:gd name="adj1" fmla="val -77055"/>
              <a:gd name="adj2" fmla="val 16261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(О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6"/>
          <p:cNvSpPr/>
          <p:nvPr/>
        </p:nvSpPr>
        <p:spPr>
          <a:xfrm>
            <a:off x="5524560" y="63118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46120" y="2031840"/>
          <a:ext cx="10896480" cy="427212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29052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2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7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 того:  внематочная берем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98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ный зан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дачная попытка аб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5" name="Прямоугольная выноска 3"/>
          <p:cNvSpPr/>
          <p:nvPr/>
        </p:nvSpPr>
        <p:spPr>
          <a:xfrm>
            <a:off x="7275600" y="1287360"/>
            <a:ext cx="4776840" cy="2451240"/>
          </a:xfrm>
          <a:prstGeom prst="wedgeRectCallout">
            <a:avLst>
              <a:gd name="adj1" fmla="val -75601"/>
              <a:gd name="adj2" fmla="val 144671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9" name="Овал 6"/>
          <p:cNvSpPr/>
          <p:nvPr/>
        </p:nvSpPr>
        <p:spPr>
          <a:xfrm>
            <a:off x="5524560" y="59356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017800"/>
            <a:ext cx="84805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61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67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ая выноска 3"/>
          <p:cNvSpPr/>
          <p:nvPr/>
        </p:nvSpPr>
        <p:spPr>
          <a:xfrm>
            <a:off x="1841400" y="5235480"/>
            <a:ext cx="2281320" cy="1262160"/>
          </a:xfrm>
          <a:prstGeom prst="wedgeRectCallout">
            <a:avLst>
              <a:gd name="adj1" fmla="val 213189"/>
              <a:gd name="adj2" fmla="val -68935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5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533520" y="22860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3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МЕДИЦИНСКОЙ ПОМОЩИ БЕРЕМЕННЫМ, РОЖЕНИЦАМ И РОДИЛЬНИЦАМ»:  таблиц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вано беременностей из числа женщин, у которых выявлены хромосомные аномалии и (или) пороки развития плода,  прошедших оценку антенатального развития плода при сроке беременности от 19 до 21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№1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блице 2000 (12-22 недели), графа 4, строка 4 -  число абортов проведенных по медицинским показаниям должно быть больше, чем в форме №3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по другому, но в таком случае объяснить поч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560"/>
              <a:gd name="adj2" fmla="val 345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4,04&gt;=32,2120,1,20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6-В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причинах временной нетрудоспособност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(або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ма гра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5,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старше 50 лет) – если в форме №13 нет данных за женщин старше 50 лет, а в форме №16-ВН есть, пояснить раз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ВН,1000,ст52,гр 14+15+16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9+ 13,2000,ст1,гр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6-В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включаются с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 всех прерываниях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и до 22 нед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метода и места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отражаются сведения о методах выполнения медицинского аборта, осложнениях, вызванных абортом, и числе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 - медицинские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у местного самоуправления, осуществляющему полномочия в сфере охраны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местного самоуправления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ргану исполнительной власти субъекта Российской Федерации, осуществляющему полномочия в сфере охраны здоров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а Российской Федерации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нистерству здравоохранения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риториальному органу Росстата в субъекте Российской Федерации по установленному им адр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трелка: вниз 3"/>
          <p:cNvSpPr/>
          <p:nvPr/>
        </p:nvSpPr>
        <p:spPr>
          <a:xfrm>
            <a:off x="5322960" y="216072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: вниз 4"/>
          <p:cNvSpPr/>
          <p:nvPr/>
        </p:nvSpPr>
        <p:spPr>
          <a:xfrm>
            <a:off x="5322960" y="354024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N 13 "Сведения о беременности с абортивным исходом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ридическими лицами - медицинскими организация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ми в номенклатуру медицинских организаций (приказ Минздрава России от 6 августа 2013 г. N 529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номенклатуры медицинских организаци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акушерско-гинекологическую помощь во время беременности, родов и в послеродовом пери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7" descr=""/>
          <p:cNvPicPr/>
          <p:nvPr/>
        </p:nvPicPr>
        <p:blipFill>
          <a:blip r:embed="rId1"/>
          <a:stretch/>
        </p:blipFill>
        <p:spPr>
          <a:xfrm>
            <a:off x="841320" y="1536840"/>
            <a:ext cx="10515600" cy="4956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0" name="Группа 13"/>
          <p:cNvGrpSpPr/>
          <p:nvPr/>
        </p:nvGrpSpPr>
        <p:grpSpPr>
          <a:xfrm>
            <a:off x="792000" y="1521000"/>
            <a:ext cx="10101600" cy="5109840"/>
            <a:chOff x="792000" y="1521000"/>
            <a:chExt cx="10101600" cy="5109840"/>
          </a:xfrm>
        </p:grpSpPr>
        <p:pic>
          <p:nvPicPr>
            <p:cNvPr id="71" name="Схема 2" descr=""/>
            <p:cNvPicPr/>
            <p:nvPr/>
          </p:nvPicPr>
          <p:blipFill>
            <a:blip r:embed="rId1"/>
            <a:stretch/>
          </p:blipFill>
          <p:spPr>
            <a:xfrm>
              <a:off x="792000" y="1521000"/>
              <a:ext cx="10101600" cy="51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Box 5"/>
            <p:cNvSpPr/>
            <p:nvPr/>
          </p:nvSpPr>
          <p:spPr>
            <a:xfrm>
              <a:off x="997200" y="2005920"/>
              <a:ext cx="9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9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7"/>
            <p:cNvSpPr/>
            <p:nvPr/>
          </p:nvSpPr>
          <p:spPr>
            <a:xfrm>
              <a:off x="1403640" y="436140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12"/>
            <p:cNvSpPr/>
            <p:nvPr/>
          </p:nvSpPr>
          <p:spPr>
            <a:xfrm>
              <a:off x="829440" y="5697720"/>
              <a:ext cx="11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166760" y="3292560"/>
            <a:ext cx="9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Объект 7" descr=""/>
          <p:cNvPicPr/>
          <p:nvPr/>
        </p:nvPicPr>
        <p:blipFill>
          <a:blip r:embed="rId1"/>
          <a:stretch/>
        </p:blipFill>
        <p:spPr>
          <a:xfrm>
            <a:off x="3902040" y="291960"/>
            <a:ext cx="7704000" cy="6280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442880" y="3349800"/>
            <a:ext cx="27259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Группа 9"/>
          <p:cNvGrpSpPr/>
          <p:nvPr/>
        </p:nvGrpSpPr>
        <p:grpSpPr>
          <a:xfrm>
            <a:off x="593640" y="679320"/>
            <a:ext cx="4424400" cy="1171800"/>
            <a:chOff x="593640" y="679320"/>
            <a:chExt cx="4424400" cy="1171800"/>
          </a:xfrm>
        </p:grpSpPr>
        <p:sp>
          <p:nvSpPr>
            <p:cNvPr id="82" name="Прямоугольник 10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solidFill>
              <a:srgbClr val="2f55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11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388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доабортного консультиров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4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Алена Александровна Кандеева</cp:lastModifiedBy>
  <cp:lastPrinted>2018-12-10T14:36:03Z</cp:lastPrinted>
  <dcterms:modified xsi:type="dcterms:W3CDTF">2021-12-21T03:13:57Z</dcterms:modified>
  <cp:revision>176</cp:revision>
  <dc:subject/>
  <dc:title>Презентация PowerPoint</dc:title>
</cp:coreProperties>
</file>