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614-8921-4CF4-BB31-65D5E96F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49E-3ADA-4D4A-807B-1D8015E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EA0-DEDA-43EB-9FFE-F36252D0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9CF-255B-4242-95F8-D70F8FDD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749-CF98-41AF-85A7-2095F13B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AD7-7578-436E-A35A-EDC809D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10B-B3AB-4858-A3F1-22C1D43B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70CC-2A63-42D1-91F7-82BC0D52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10D-0C31-4AF8-A725-870657A1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B18-1718-430B-BD36-CFBCD37B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D22-5167-43CA-8926-A7CCC55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8AA-793D-4900-9E50-9FFFD63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D4A2-6730-4BAD-9503-5021EA719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569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УЗ «ЗАБАЙКАЛЬСКОЕ КРАЕВОЕ ПАТОЛОГОАНАТОМИЧЕСКОЕ БЮ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. Чита 2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218"/>
          <p:cNvSpPr/>
          <p:nvPr/>
        </p:nvSpPr>
        <p:spPr>
          <a:xfrm>
            <a:off x="2362320" y="-6303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048"/>
          <p:cNvSpPr/>
          <p:nvPr/>
        </p:nvSpPr>
        <p:spPr>
          <a:xfrm>
            <a:off x="826920" y="545040"/>
            <a:ext cx="79218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бинеты, отделения, подразделения, еди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4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1001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1484280"/>
          <a:ext cx="8135640" cy="3973680"/>
        </p:xfrm>
        <a:graphic>
          <a:graphicData uri="http://schemas.openxmlformats.org/drawingml/2006/table">
            <a:tbl>
              <a:tblPr/>
              <a:tblGrid>
                <a:gridCol w="3922560"/>
                <a:gridCol w="654120"/>
                <a:gridCol w="1598400"/>
                <a:gridCol w="1020960"/>
                <a:gridCol w="939600"/>
              </a:tblGrid>
              <a:tr h="797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  отделений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- 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й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ов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-гинеколог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олжение Табл. 1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62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атологоанатом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аличие отделения следует показывать только тогда, когда в отчете имеются штатные и занятые должности врачей, проверить наличие лицензии на данный вид услу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 наличии отделения указать чис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нтрал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: патологоанатомических бюр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ро судебно-медицинской экспертиз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заполня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ивания кр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ые цент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1"/>
          <p:cNvSpPr/>
          <p:nvPr/>
        </p:nvSpPr>
        <p:spPr>
          <a:xfrm>
            <a:off x="684360" y="5732640"/>
            <a:ext cx="806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100) Должности и физические лица медицинской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26920" y="6021360"/>
          <a:ext cx="7921800" cy="365040"/>
        </p:xfrm>
        <a:graphic>
          <a:graphicData uri="http://schemas.openxmlformats.org/drawingml/2006/table">
            <a:tbl>
              <a:tblPr/>
              <a:tblGrid>
                <a:gridCol w="1451160"/>
                <a:gridCol w="309600"/>
                <a:gridCol w="363600"/>
                <a:gridCol w="365040"/>
                <a:gridCol w="365040"/>
                <a:gridCol w="316080"/>
                <a:gridCol w="365040"/>
                <a:gridCol w="365040"/>
                <a:gridCol w="420840"/>
                <a:gridCol w="527040"/>
                <a:gridCol w="585720"/>
                <a:gridCol w="353880"/>
                <a:gridCol w="365400"/>
                <a:gridCol w="374400"/>
                <a:gridCol w="465120"/>
                <a:gridCol w="463680"/>
                <a:gridCol w="465120"/>
              </a:tblGrid>
              <a:tr h="365040">
                <a:tc>
                  <a:txBody>
                    <a:bodyPr lIns="57600" rIns="57600" tIns="0" bIns="0" anchor="b">
                      <a:noAutofit/>
                    </a:bodyPr>
                    <a:p>
                      <a:pPr marL="65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атологоана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8031"/>
          <p:cNvSpPr/>
          <p:nvPr/>
        </p:nvSpPr>
        <p:spPr>
          <a:xfrm>
            <a:off x="1955880" y="-1389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371"/>
          <p:cNvSpPr/>
          <p:nvPr/>
        </p:nvSpPr>
        <p:spPr>
          <a:xfrm>
            <a:off x="949320" y="903960"/>
            <a:ext cx="11634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8. Оснащение основным технологическим оборудованием патолого-анатомического бюро (отделения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5460)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УКАЗАТЬ ПРИ НАЛИЧИИ , В ЦРБ, где есть отделения проставить количество только по строке 0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844640"/>
          <a:ext cx="8642160" cy="4572000"/>
        </p:xfrm>
        <a:graphic>
          <a:graphicData uri="http://schemas.openxmlformats.org/drawingml/2006/table">
            <a:tbl>
              <a:tblPr/>
              <a:tblGrid>
                <a:gridCol w="4281480"/>
                <a:gridCol w="547560"/>
                <a:gridCol w="954000"/>
                <a:gridCol w="952560"/>
                <a:gridCol w="952560"/>
                <a:gridCol w="954000"/>
              </a:tblGrid>
              <a:tr h="231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единиц оборуд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10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макроскопического исследования и вырезки (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ол для аутопси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карусель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проводки процессорного ти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для заливки парафиновых бл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с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еханическ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томы ротационные моторизова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микрото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окраски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стейн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ы для заключения микропреп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рабоч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световые бинокулярные универсаль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скопы электро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поляризационн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 для цифровой микроскоп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539640" y="367560"/>
            <a:ext cx="842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 Деятельность патолого-анатомического бюро (отдел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1. Прижизненные патологоанатомические исследования биопсийного (операционного)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0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АННУЮ ТАБЛИЦУ ЗАПОЛНЯЮТ ТОЛЬКО 3 УЧРЕЖДЕНИЯ: ЗКОД, КМЦ и ЗКПА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79280" y="1844640"/>
          <a:ext cx="8748720" cy="4572000"/>
        </p:xfrm>
        <a:graphic>
          <a:graphicData uri="http://schemas.openxmlformats.org/drawingml/2006/table">
            <a:tbl>
              <a:tblPr/>
              <a:tblGrid>
                <a:gridCol w="3510000"/>
                <a:gridCol w="482760"/>
                <a:gridCol w="574560"/>
                <a:gridCol w="490680"/>
                <a:gridCol w="722160"/>
                <a:gridCol w="722520"/>
                <a:gridCol w="718920"/>
                <a:gridCol w="722520"/>
                <a:gridCol w="804600"/>
              </a:tblGrid>
              <a:tr h="346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-анатомические исследования биопсийного и операционного материа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-ным меди-цински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-ция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патолого-анатом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патолого-анатомических исследований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иопсийного и операционного материала, включая последы, ед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 (из стр. 4)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которым выполнены прижизненные цитологические исследования, че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 повторн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жизненных цитологических исследований, е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полнительных окрасок, постановок реакций, определений (из стр. 9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9800" y="690480"/>
            <a:ext cx="961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.2. Посмертные патологоанатомические исследования (вскрыт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5503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ЛЯ ЦРБ по вскрытиям - категория сложности 1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484280"/>
          <a:ext cx="8280360" cy="5376960"/>
        </p:xfrm>
        <a:graphic>
          <a:graphicData uri="http://schemas.openxmlformats.org/drawingml/2006/table">
            <a:tbl>
              <a:tblPr/>
              <a:tblGrid>
                <a:gridCol w="3994200"/>
                <a:gridCol w="798480"/>
                <a:gridCol w="579240"/>
                <a:gridCol w="217440"/>
                <a:gridCol w="362160"/>
                <a:gridCol w="434880"/>
                <a:gridCol w="409680"/>
                <a:gridCol w="314280"/>
                <a:gridCol w="1170000"/>
              </a:tblGrid>
              <a:tr h="201240"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 категориям сложности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организаций, оказывающих медицинскую помощь в стационарных условия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 (сумма  вскрытий умерших в стационаре по 14 форме и умерших на дому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ум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-во вскрытий умерших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     умерш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36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 (168 час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.: 18–59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22–27 недел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кидышей при сроке беременности менее 22 нед. и массой тела менее 500 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бъектов посмертного патолого-анатомического исследования матери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-анатоми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545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23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07"/>
          <p:cNvSpPr/>
          <p:nvPr/>
        </p:nvSpPr>
        <p:spPr>
          <a:xfrm>
            <a:off x="3516480" y="650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85"/>
          <p:cNvSpPr/>
          <p:nvPr/>
        </p:nvSpPr>
        <p:spPr>
          <a:xfrm>
            <a:off x="5164200" y="110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815"/>
          <p:cNvSpPr/>
          <p:nvPr/>
        </p:nvSpPr>
        <p:spPr>
          <a:xfrm>
            <a:off x="3516480" y="2246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893"/>
          <p:cNvSpPr/>
          <p:nvPr/>
        </p:nvSpPr>
        <p:spPr>
          <a:xfrm>
            <a:off x="5164200" y="2703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353960"/>
          <a:ext cx="8785440" cy="4596120"/>
        </p:xfrm>
        <a:graphic>
          <a:graphicData uri="http://schemas.openxmlformats.org/drawingml/2006/table">
            <a:tbl>
              <a:tblPr/>
              <a:tblGrid>
                <a:gridCol w="1865520"/>
                <a:gridCol w="458640"/>
                <a:gridCol w="674640"/>
                <a:gridCol w="441360"/>
                <a:gridCol w="701640"/>
                <a:gridCol w="784440"/>
                <a:gridCol w="664920"/>
                <a:gridCol w="441360"/>
                <a:gridCol w="700200"/>
                <a:gridCol w="701640"/>
                <a:gridCol w="676440"/>
                <a:gridCol w="674640"/>
              </a:tblGrid>
              <a:tr h="57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СТАВ ПАЦИЕНТОВ В СТАЦИОНАРЕ, СРОКИ И ИСХОДЫ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0)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                                                                                                                        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800"/>
                      </a:b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br>
                        <a:rPr sz="800"/>
                      </a:b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                       по МКБ-10 пересмот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старш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болев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кишечные инфек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А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97"/>
          <p:cNvSpPr/>
          <p:nvPr/>
        </p:nvSpPr>
        <p:spPr>
          <a:xfrm>
            <a:off x="3462480" y="2770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55640" y="836640"/>
          <a:ext cx="7848720" cy="2268360"/>
        </p:xfrm>
        <a:graphic>
          <a:graphicData uri="http://schemas.openxmlformats.org/drawingml/2006/table">
            <a:tbl>
              <a:tblPr/>
              <a:tblGrid>
                <a:gridCol w="588960"/>
                <a:gridCol w="939960"/>
                <a:gridCol w="1081080"/>
                <a:gridCol w="892080"/>
                <a:gridCol w="590400"/>
                <a:gridCol w="938160"/>
                <a:gridCol w="939960"/>
                <a:gridCol w="938160"/>
                <a:gridCol w="939960"/>
              </a:tblGrid>
              <a:tr h="2156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старше трудоспособного возраста (с 55 лет у женщин и с 60 лет у мужчин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-тавленых по экстренным показ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763"/>
          <p:cNvSpPr/>
          <p:nvPr/>
        </p:nvSpPr>
        <p:spPr>
          <a:xfrm>
            <a:off x="337500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284640"/>
          <a:ext cx="8785440" cy="2881080"/>
        </p:xfrm>
        <a:graphic>
          <a:graphicData uri="http://schemas.openxmlformats.org/drawingml/2006/table">
            <a:tbl>
              <a:tblPr/>
              <a:tblGrid>
                <a:gridCol w="598680"/>
                <a:gridCol w="743040"/>
                <a:gridCol w="838080"/>
                <a:gridCol w="625320"/>
                <a:gridCol w="812880"/>
                <a:gridCol w="663480"/>
                <a:gridCol w="665280"/>
                <a:gridCol w="738360"/>
                <a:gridCol w="885600"/>
                <a:gridCol w="811440"/>
                <a:gridCol w="661680"/>
                <a:gridCol w="741600"/>
              </a:tblGrid>
              <a:tr h="23652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боль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выписан-ными койк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(из гр.26)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став-леных по экст-ренным показа-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ольных, доставленных скорой мед. помощью        (из гр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18  выписан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патолого-анатоми-че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дено судебно-медицинских вскры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установлено расхождений диа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гр.28 умерло в возрасте до 1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заполнить списки по всем умершим, по взрослому и детскому населению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данные списки необходимо сверить с органами ЗАГС, врачами патологоанатомами и СМЭ в районе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ыверенные списки в 2-х экземплярах и форму 14 и 30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оставить ответственным сотрудникам Бюро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ием отчетов осуществляется в ЗКПА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я для Ц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взрослому сектору – Герасимова Анастасия Александровна, заведующая отделением (тел.31-43-0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тскому сектору – Золотухина Анастасия Олеговна, заведующая отделением (тел. 31-42-98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ститель начальника по ОМР Жевтнева Елена Владимировна (тел. 31-44-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09:15:16Z</dcterms:created>
  <dc:creator>User</dc:creator>
  <dc:description/>
  <dc:language>en-US</dc:language>
  <cp:lastModifiedBy>НН</cp:lastModifiedBy>
  <cp:lastPrinted>2023-12-13T07:13:07Z</cp:lastPrinted>
  <dcterms:modified xsi:type="dcterms:W3CDTF">2023-12-14T01:48:01Z</dcterms:modified>
  <cp:revision>61</cp:revision>
  <dc:subject/>
  <dc:title>Слайд 1</dc:title>
</cp:coreProperties>
</file>