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D11C-541B-48F3-B37D-83C319853B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AA91-53DB-4CF0-932B-FEDFDAE4C96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0" name="Text Box 2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7D9-1BEB-49B3-87F7-FCEA91A6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385A-FA79-41E2-9796-89CE2742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F54-7A3A-465B-AE4D-CC7C708A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A0A-2575-433F-BBF5-25520B70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3595-9F5C-45D1-8F0C-C64756A7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AA07-FB76-4D7D-9F03-7B24E77F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068-250A-48F6-A8E1-8569C75F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5D36-979B-4F05-A0B3-ADDA1CF6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8CA-BAA9-408D-931C-71FD5139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470-5613-45B6-B271-6C378F8F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988E-931E-4119-8860-1A38200A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EB2-9ECB-459C-9CF4-4D5DC6D0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A46D-E29E-4901-8577-F5B4EEDF1D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довой отчет за 2019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ональная диагно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яснительная запис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95280" y="1989000"/>
          <a:ext cx="8353440" cy="1870200"/>
        </p:xfrm>
        <a:graphic>
          <a:graphicData uri="http://schemas.openxmlformats.org/drawingml/2006/table">
            <a:tbl>
              <a:tblPr/>
              <a:tblGrid>
                <a:gridCol w="466560"/>
                <a:gridCol w="1646280"/>
                <a:gridCol w="1290600"/>
                <a:gridCol w="773280"/>
                <a:gridCol w="1033560"/>
                <a:gridCol w="1788840"/>
                <a:gridCol w="1354320"/>
              </a:tblGrid>
              <a:tr h="239040"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 врач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й или совмест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если совместитель – основная специальность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сследования, которые выполня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сследования, которыми владе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Box 4"/>
          <p:cNvSpPr/>
          <p:nvPr/>
        </p:nvSpPr>
        <p:spPr>
          <a:xfrm>
            <a:off x="324000" y="1484280"/>
            <a:ext cx="43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14972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ППА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4797360"/>
          <a:ext cx="8353440" cy="365040"/>
        </p:xfrm>
        <a:graphic>
          <a:graphicData uri="http://schemas.openxmlformats.org/drawingml/2006/table">
            <a:tbl>
              <a:tblPr/>
              <a:tblGrid>
                <a:gridCol w="520560"/>
                <a:gridCol w="2916360"/>
                <a:gridCol w="2227320"/>
                <a:gridCol w="1481040"/>
                <a:gridCol w="12081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готов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д ввода в 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. состоя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компьютерные электрокардиографы – аппараты (Кардиометр, Поли-Спектр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CG-Easy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CG-Dongle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кардиофлешк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ультразвуковые методы (ЭхоКГ, УЗДГ сосудов, ЭхоЭГ, нейросонография) –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30 форме – в отчет по УЗИ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о в пояснительной записке указать количество и на каком аппарат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ульсоксиметрию в рамках врачебного осмотра в отчет не внос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1341360"/>
            <a:ext cx="784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кан Виталий Станислав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жная клиническая больница на ст.Чита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Ж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Чита, ул.Горбунова,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 раб:  8 914 516 570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 сот:   8 924 270 933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ly.barkan@yandex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9T00:55:17Z</dcterms:created>
  <dc:creator>пк</dc:creator>
  <dc:description/>
  <dc:language>en-US</dc:language>
  <cp:lastModifiedBy>пк</cp:lastModifiedBy>
  <dcterms:modified xsi:type="dcterms:W3CDTF">2019-12-19T04:31:56Z</dcterms:modified>
  <cp:revision>20</cp:revision>
  <dc:subject/>
  <dc:title>Слайд 1</dc:title>
</cp:coreProperties>
</file>