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E71-ADEB-41DD-81C0-019D773A6E99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D66F-70DB-4D64-8D40-214504B36D82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638-753C-494F-A333-CAAE56F21C0C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Dotum"/>
                  <a:ea typeface="Dotum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-41400" y="-334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равила, порядок и требования </a:t>
            </a:r>
            <a:br>
              <a:rPr sz="4000"/>
            </a:br>
            <a:r>
              <a:rPr b="0" lang="ru-RU" sz="40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к заполнению ФСН №12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едения 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регистрированных у пациентов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живающих в районе обслуживания медицинской организации»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Зарегистрирована Росстатом 22.11.2019 г. № 679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201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9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2" name="Таблица 1" descr=""/>
          <p:cNvPicPr/>
          <p:nvPr/>
        </p:nvPicPr>
        <p:blipFill>
          <a:blip r:embed="rId1"/>
          <a:stretch/>
        </p:blipFill>
        <p:spPr>
          <a:xfrm>
            <a:off x="749160" y="957240"/>
            <a:ext cx="75726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9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ми в номенклатуру медицинских организаций, оказывающих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ulim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3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Gulim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Gulim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Gulim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052640"/>
            <a:ext cx="6858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2. Дети первых трех лет жизни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60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ого года жизн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акторы, влияющие на состояние здоровья населения и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ращения в медицинские организаци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с профилактической и иными целями)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246320"/>
          <a:ext cx="7993080" cy="440820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Gulim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1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6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билитация!!!!!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7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8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1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1"/>
          <p:cNvSpPr/>
          <p:nvPr/>
        </p:nvSpPr>
        <p:spPr>
          <a:xfrm>
            <a:off x="971640" y="1125360"/>
            <a:ext cx="770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755640" y="1989000"/>
            <a:ext cx="7777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(с ф. №14)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ь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в ф. № 12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≥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. №14</a:t>
            </a:r>
            <a:br>
              <a:rPr sz="4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5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63440" y="789120"/>
            <a:ext cx="8839440" cy="59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а результата не являются диагнозом какого-либо заболева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 ф. №12 и ф. №14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Dotum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заболеваний у пациентов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Светлана Викторовна Шалаева</cp:lastModifiedBy>
  <dcterms:modified xsi:type="dcterms:W3CDTF">2019-12-18T02:30:57Z</dcterms:modified>
  <cp:revision>433</cp:revision>
  <dc:subject/>
  <dc:title>슬라이드 1</dc:title>
</cp:coreProperties>
</file>