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7DD4-F9E6-49CB-A296-DCF7A1C8C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59CE-1156-42A6-8498-9EAD0392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DA21-0E2C-461A-AECE-C567A870A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E0F0-0655-48D0-8A13-3297483D9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0B6E-0A17-4F82-BE21-7DBA1D37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CBFB-7FF8-42FF-A89F-454EA758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4F28-270C-482D-AC64-CF9CDB55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F158-DDF6-43F0-8501-53274D40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AF7F-72EB-4967-815F-6D9016EE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2BCD-3A13-4305-ABB3-315EC35B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7CEA-EDB9-4FE0-BFD7-F83125F6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E33A-951B-42DA-92B5-F6E559E2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52C9-BC37-4219-854A-2154A1B9D3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85690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ГУЗ «ЗАБАЙКАЛЬСКОЕ КРАЕВОЕ ПАТОЛОГОАНАТОМИЧЕСКОЕ БЮР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30028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. Чита 20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Спасиб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за внимани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1218"/>
          <p:cNvSpPr/>
          <p:nvPr/>
        </p:nvSpPr>
        <p:spPr>
          <a:xfrm>
            <a:off x="2362320" y="-630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048"/>
          <p:cNvSpPr/>
          <p:nvPr/>
        </p:nvSpPr>
        <p:spPr>
          <a:xfrm>
            <a:off x="826920" y="469080"/>
            <a:ext cx="79218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. Кабинеты, отделения, подразд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1001)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Код по ОКЕИ: единица </a:t>
            </a:r>
            <a:r>
              <a:rPr b="0" lang="ru-RU" sz="1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6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4360" y="1484280"/>
          <a:ext cx="8135640" cy="4314960"/>
        </p:xfrm>
        <a:graphic>
          <a:graphicData uri="http://schemas.openxmlformats.org/drawingml/2006/table">
            <a:tbl>
              <a:tblPr/>
              <a:tblGrid>
                <a:gridCol w="3922560"/>
                <a:gridCol w="654120"/>
                <a:gridCol w="1598400"/>
                <a:gridCol w="1020960"/>
                <a:gridCol w="939600"/>
              </a:tblGrid>
              <a:tr h="796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подразделений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ов,  отделений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инетов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- 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ений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ов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ине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ко-гинекологическ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ческ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булатор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те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из них: изготавливающие лекарственные препарат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становительного леч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танционно-диагностические кабинет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должение Табл. 1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3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Патологоанатомическ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централизова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оставе: патологоанатомических бюр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ро судебно-медицинской экспертиз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ливания кров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натальные цент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7497"/>
          <p:cNvSpPr/>
          <p:nvPr/>
        </p:nvSpPr>
        <p:spPr>
          <a:xfrm>
            <a:off x="-734760" y="-1795680"/>
            <a:ext cx="10615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1100)                                                                                                                                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Коды по ОКЕИ: человек – 792; единица – 6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28031"/>
          <p:cNvSpPr/>
          <p:nvPr/>
        </p:nvSpPr>
        <p:spPr>
          <a:xfrm>
            <a:off x="1955880" y="-1389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9371"/>
          <p:cNvSpPr/>
          <p:nvPr/>
        </p:nvSpPr>
        <p:spPr>
          <a:xfrm>
            <a:off x="516240" y="904320"/>
            <a:ext cx="8193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8. Оснащение основным технологическим оборудованием патолого-анатомического бюро (отделения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5460)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Коды по ОКЕИ: единица – 6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50920" y="1844640"/>
          <a:ext cx="8642160" cy="4572000"/>
        </p:xfrm>
        <a:graphic>
          <a:graphicData uri="http://schemas.openxmlformats.org/drawingml/2006/table">
            <a:tbl>
              <a:tblPr/>
              <a:tblGrid>
                <a:gridCol w="4281480"/>
                <a:gridCol w="547560"/>
                <a:gridCol w="954000"/>
                <a:gridCol w="952560"/>
                <a:gridCol w="952560"/>
                <a:gridCol w="954000"/>
              </a:tblGrid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единиц оборудов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о сроком эксплуатации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5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10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е 10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для макроскопического исследования и вырез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ы для проводки карусельного тип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ы для проводки процессорного тип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для заливки парафиновых блок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томы са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томы ротационные механическ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томы ротационные моторизова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ьтрамикротом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ы для окраски микропрепара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гистостейне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ы для заключения микропрепара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копы световые бинокулярные рабоч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копы световые бинокулярные универсаль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копы электро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удование для поляризационной микроскоп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удование для цифровой микроскоп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539640" y="474480"/>
            <a:ext cx="8425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. Деятельность патолого-анатомического бюро (отделен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.1. Прижизненные патологоанатомические исследования биопсийного (операционного) материа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5500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ды по ОКЕИ: человек – 792; единица – 64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79280" y="1844640"/>
          <a:ext cx="8748720" cy="4572000"/>
        </p:xfrm>
        <a:graphic>
          <a:graphicData uri="http://schemas.openxmlformats.org/drawingml/2006/table">
            <a:tbl>
              <a:tblPr/>
              <a:tblGrid>
                <a:gridCol w="3510000"/>
                <a:gridCol w="482760"/>
                <a:gridCol w="574560"/>
                <a:gridCol w="490680"/>
                <a:gridCol w="722160"/>
                <a:gridCol w="722520"/>
                <a:gridCol w="718920"/>
                <a:gridCol w="722520"/>
                <a:gridCol w="804600"/>
              </a:tblGrid>
              <a:tr h="346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патолого-анатомические исследования биопсийного и операционного материал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категориям сложности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реплен-ным меди-цински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-циям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которым выполнены прижизненные патолого-анатомические исследования, че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) повторны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чае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жизненных патолого-анатомических исследований, ед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бъекто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иопсийного и операционного материала, включая последы, ед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полнительных окрасок, постановок реакций, определений  (из стр. 4), е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которым выполнены прижизненные цитологические исследования, че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6) повторны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лучае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жизненных цитологических исследований, е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бъекто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жизненных цитологических исследований, е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полнительных окрасок, постановок реакций, определений (из стр. 9)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671400" y="690840"/>
            <a:ext cx="831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.2. Посмертные патологоанатомические исследования (вскрытия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5503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Код по ОКЕИ: человек – 7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11280" y="1484280"/>
          <a:ext cx="8280360" cy="5157720"/>
        </p:xfrm>
        <a:graphic>
          <a:graphicData uri="http://schemas.openxmlformats.org/drawingml/2006/table">
            <a:tbl>
              <a:tblPr/>
              <a:tblGrid>
                <a:gridCol w="3994200"/>
                <a:gridCol w="798480"/>
                <a:gridCol w="579240"/>
                <a:gridCol w="217440"/>
                <a:gridCol w="362160"/>
                <a:gridCol w="434880"/>
                <a:gridCol w="409680"/>
                <a:gridCol w="314280"/>
                <a:gridCol w="1170000"/>
              </a:tblGrid>
              <a:tr h="201240">
                <a:tc rowSpan="3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мические вскрыт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категориям сложности: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организаций, оказывающих медицинскую помощь в стационарных условия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тологоанатомических вскрытий, 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ш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36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36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(0–17 лет включительно)                                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рожденных, умерших в возрасте 0–6 суток (168 час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родившихся в срок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и 22-27 недел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1.1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7 дней – 11 месяцев 29 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1–4 года включи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5–14 лет включи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15–17 лет включи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в трудоспособном возрасте (жен.: 18–54 г. включительно;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.: 18–59 лет включительно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в возрасте старше трудоспособно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творожденных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мертворожденных при сроке беременности 22–27 недель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кидышей при сроке беременности менее 22 нед. и массой тела менее 500 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бъектов посмертного патолого-анатомического исследования материал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-анатомиче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545"/>
          <p:cNvSpPr/>
          <p:nvPr/>
        </p:nvSpPr>
        <p:spPr>
          <a:xfrm>
            <a:off x="3516480" y="650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23"/>
          <p:cNvSpPr/>
          <p:nvPr/>
        </p:nvSpPr>
        <p:spPr>
          <a:xfrm>
            <a:off x="5164200" y="1108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107"/>
          <p:cNvSpPr/>
          <p:nvPr/>
        </p:nvSpPr>
        <p:spPr>
          <a:xfrm>
            <a:off x="3516480" y="650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185"/>
          <p:cNvSpPr/>
          <p:nvPr/>
        </p:nvSpPr>
        <p:spPr>
          <a:xfrm>
            <a:off x="5164200" y="1108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815"/>
          <p:cNvSpPr/>
          <p:nvPr/>
        </p:nvSpPr>
        <p:spPr>
          <a:xfrm>
            <a:off x="3516480" y="2246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893"/>
          <p:cNvSpPr/>
          <p:nvPr/>
        </p:nvSpPr>
        <p:spPr>
          <a:xfrm>
            <a:off x="5164200" y="2703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79280" y="1353960"/>
          <a:ext cx="8785440" cy="4596120"/>
        </p:xfrm>
        <a:graphic>
          <a:graphicData uri="http://schemas.openxmlformats.org/drawingml/2006/table">
            <a:tbl>
              <a:tblPr/>
              <a:tblGrid>
                <a:gridCol w="1865520"/>
                <a:gridCol w="458640"/>
                <a:gridCol w="674640"/>
                <a:gridCol w="441360"/>
                <a:gridCol w="701640"/>
                <a:gridCol w="784440"/>
                <a:gridCol w="664920"/>
                <a:gridCol w="441360"/>
                <a:gridCol w="700200"/>
                <a:gridCol w="701640"/>
                <a:gridCol w="676440"/>
                <a:gridCol w="674640"/>
              </a:tblGrid>
              <a:tr h="57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1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СОСТАВ ПАЦИЕНТОВ В СТАЦИОНАРЕ, СРОКИ И ИСХОДЫ ЛЕЧ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560">
                <a:tc gridSpan="1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000)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                                                                                                                        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о ОКЕИ: человек – 7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380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заболе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br>
                        <a:rPr sz="800"/>
                      </a:b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br>
                        <a:rPr sz="800"/>
                      </a:b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                       по МКБ-10 пересмот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Взрослые (18 лет и старше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боль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выписан-ными койко-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с-тавленых по экстренным показан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ольных, доставленных скорой мед. помощью        (из гр.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патолого-анатоми-че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судебно-медицин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заболеван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: некоторые инфекционные и паразитарные болезн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кишечные инфекц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 органов дых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5-А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Line 197"/>
          <p:cNvSpPr/>
          <p:nvPr/>
        </p:nvSpPr>
        <p:spPr>
          <a:xfrm>
            <a:off x="3462480" y="2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755640" y="836640"/>
          <a:ext cx="7848720" cy="2268360"/>
        </p:xfrm>
        <a:graphic>
          <a:graphicData uri="http://schemas.openxmlformats.org/drawingml/2006/table">
            <a:tbl>
              <a:tblPr/>
              <a:tblGrid>
                <a:gridCol w="588960"/>
                <a:gridCol w="939960"/>
                <a:gridCol w="1081080"/>
                <a:gridCol w="892080"/>
                <a:gridCol w="590400"/>
                <a:gridCol w="938160"/>
                <a:gridCol w="939960"/>
                <a:gridCol w="938160"/>
                <a:gridCol w="939960"/>
              </a:tblGrid>
              <a:tr h="21564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Взрослые старше трудоспособного возраста (с 55 лет у женщин и с 60 лет у мужчин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боль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выписан-ными койко-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с-тавленых по экстренным показан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ольных, доставленных скорой мед. помощью        (из гр.1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патолого-анатоми-че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судебно-медицин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Line 763"/>
          <p:cNvSpPr/>
          <p:nvPr/>
        </p:nvSpPr>
        <p:spPr>
          <a:xfrm>
            <a:off x="3375000" y="26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79280" y="3284640"/>
          <a:ext cx="8785440" cy="2881080"/>
        </p:xfrm>
        <a:graphic>
          <a:graphicData uri="http://schemas.openxmlformats.org/drawingml/2006/table">
            <a:tbl>
              <a:tblPr/>
              <a:tblGrid>
                <a:gridCol w="598680"/>
                <a:gridCol w="743040"/>
                <a:gridCol w="838080"/>
                <a:gridCol w="625320"/>
                <a:gridCol w="812880"/>
                <a:gridCol w="663480"/>
                <a:gridCol w="665280"/>
                <a:gridCol w="738360"/>
                <a:gridCol w="885600"/>
                <a:gridCol w="811440"/>
                <a:gridCol w="661680"/>
                <a:gridCol w="741600"/>
              </a:tblGrid>
              <a:tr h="236520">
                <a:tc gridSpan="1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 Дети (в возрасте 0-17 лет включительно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боль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выписан-ными койко-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(из гр.26) в возрасте до 1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7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став-леных по экст-ренным показа-н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ольных, доставленных скорой мед. помощью        (из гр.2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18  выписано в возрасте до 1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патолого-анатоми-че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судебно-медицин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гр.28 умерло в возрасте до 1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я для ЦР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1. заполнить списки по всем умершим, согласно отправленной формы, по взрослому и детскому населению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2. данные списки необходимо сверить с органами ЗАГС, врачами патологоанатомами и СМЭ в районе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выверенные списки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редоставить вместе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с протоколами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атологоанатомических вскрытий в районе ответственным сотрудникам Бюро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я для ЦР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взрослому сектору – Гончарова Марина Александровна, заведующая отделением (тел.31-43-0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детскому сектору – Золотухина Анастасия Олеговна, заведующая отделением (тел. 31-42-98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ач-статистик Хамина Татьяна Юр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9:15:16Z</dcterms:created>
  <dc:creator>User</dc:creator>
  <dc:description/>
  <dc:language>en-US</dc:language>
  <cp:lastModifiedBy>НН</cp:lastModifiedBy>
  <dcterms:modified xsi:type="dcterms:W3CDTF">2019-12-19T02:09:59Z</dcterms:modified>
  <cp:revision>47</cp:revision>
  <dc:subject/>
  <dc:title>Слайд 1</dc:title>
</cp:coreProperties>
</file>