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9B8E-E491-4000-A8B5-68B3DFE7322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59BA-8A14-493B-9702-159D798ABA8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DD4-9D09-42CD-B36E-D4F97732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C6C-CB87-4F32-A73C-F7AB040A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82A-8A30-4D3D-A813-B092AC32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B27-58AD-4719-BCA1-E605AE45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C35-A775-4DA5-8B81-69618B08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3F5-4B05-4120-A007-E68A349C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FD4-6F7C-411C-BD1F-58482EB0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12E-45BB-403A-A081-92A8506C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654-625C-4858-8692-8106A7B1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833-CC25-4CCF-AAED-0E63267E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6FC-0F22-44D0-A036-2A171CC3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A4A-F23B-4B2C-9FCA-BD5CE13F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2C09-731A-491C-ABF5-6B2D0B2087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ndchita.ru/" TargetMode="External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1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Бланки форм № 11 и № 37 за отчетный 2019 год остаются без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№ 410 от 16.10.2013 г. (формы № 11 и № 37). Минздрав России поставил задачу разработки новой формы, которая в большей степени соответствует российской и мировой наркологической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овой формы был разослан во все субъекты России для ознакомления и об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изучаются и анализируются все предложения и дополнения, полученные от су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15E3-9CB1-47BE-879C-D78CED60C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9440" y="160956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табличные и межформенные проверки в 2019 году остаются без изме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. формы № 11 и № 37 в 2 экз., подписанные руководителем, с печатью, проштампованные в МЗ в отделе стат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. № 30 (разделы «штаты, кадры», «посещения», «мед. освидетельствование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. №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лан работы наркологической службы района на 2020 г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ъюнктурный отчет за 2019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186A-C340-4A98-94E8-482CFFD94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даче годового отчета и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41-64-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bolnica"/>
          <p:cNvPicPr/>
          <p:nvPr/>
        </p:nvPicPr>
        <p:blipFill>
          <a:blip r:embed="rId1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Елена</cp:lastModifiedBy>
  <dcterms:modified xsi:type="dcterms:W3CDTF">2019-12-18T07:34:14Z</dcterms:modified>
  <cp:revision>210</cp:revision>
  <dc:subject/>
  <dc:title>PowerPoint Template</dc:title>
</cp:coreProperties>
</file>