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503-2D52-4A3A-8449-ACEB479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9C7-2D69-403E-9832-A3AC124E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79A-4902-41F0-B76B-83FDA719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13D-C804-4DCF-B250-38279CDE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79B7-930B-4610-8B1E-DB6F1C63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BDB7-489E-4AA9-85C3-57343F9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69E0-B9FB-444F-AD23-21FD6695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9687-BB59-4BBC-91A6-91C7C62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751-EFCD-4440-B3BB-FE0DA43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5FE9-512B-4132-BF8C-E92C4D46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F50D-D966-40F1-B646-2476F2F3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403-0FF4-4154-A6FD-2789538F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511-E5EC-468F-8581-9B163FD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F93-2E94-44D6-855B-F8C7CA3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41A3-7805-4F66-A53F-CD3672D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34E-B903-47AC-AABE-EB354EBD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B8F-7577-469A-B0A5-F269D28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F30-07AE-423B-87EB-B84D240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6C2-DF0C-4E47-A869-7E2C6D2A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E6A-5487-4911-9D2F-39F5B8A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46B-C6E9-413F-8CED-30FB2F8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810-3925-455C-B369-924BB9CB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141-6272-47C9-BC0A-E491D9F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FDC-EEAA-4A28-B580-60653D9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CA73-2D40-4B05-BC90-8269E6723A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3F5-B716-45CA-80DD-8C0CADC363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Порядок представления годового отчета за2019г. в ГБУЗ «ЗККФПЦ»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Формирование и контроль корректности отчетов федерального статистического наблю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Заместитель главного врача по организационно-методической работе Татьяна Николаевна Кнести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Тел: 41-60-0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8-914-498-945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e-mail: optd_chita@mail.r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057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25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.8(о заболеваниях активным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уберкулезом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21428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0160" y="257040"/>
            <a:ext cx="874368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71440" y="466560"/>
            <a:ext cx="86011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 по противотуберкулезной работе среди населени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гистрация новых случаев заболевания туберкулезом за 2019г.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20.12.2019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 25.12.2019г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– окончательно сверить (можно по телефону) заболеваемость, в том числе – выявленных при аутопсии, бактериовыделителей (по методу обнаружения), временно проживающих на территории, БОМЖ, число умерших от туберку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ипич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молекулярно-генетических  методов при составлении отчёта по формам 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икак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ющая система мониторинга не рассчитана на учёт результатов молекулярно-генетических методов исследо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учитывать результаты посев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использованием автоматических бактериологических анализаторов (бактеков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и составлении отчёта по форма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№ 8, 33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результаты обычного пос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97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При сдаче отчета предоставить следующие отчетные ф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8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а № 3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заполнением всех таблиц по всем строкам и графам, в бумажном вариант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а 2513 формы № 30 – строка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казать суммарно всех жителей территории обслуживания, обследованных в текущем году лучевым метод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в любой медицинской организации, независимо от ведомственной принадлежност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аблицы по противотуберкулезной работе среди детей и подростк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заполнить все таблицы по всем графам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том числ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иммунодиагностике туберкулеза (туберкулиновая проба, Диаскинтест) отразить число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лиц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ледованных данным методом, а не число выполненных исследований; данные должны совпадать с таблиц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13 ф. № 30 и таблицей 2200 ф. № 3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 отчете по вакцинации БЦЖ новорожденных предоставить сводные данные обо всех новорожденных детях района, в том числе рожденных в других Л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по ЗАГСу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 к годовому отчету по противотуберкулезной работе за подписью главного врача ЦРБ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 анализ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ей в динамике за 3 года в сравнении с краем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оверные пофамильные списки с указанием даты рождения, адреса, даты взятия на учет, диагноза, раздельно с наличием бактериовыделения и без н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нтингентов, состоящих на учете п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руппам ДУ (раздельн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ереведенных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ДУ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мерших от туберкулеза в отчетном году по данным ЦСУ, в том числ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елением на городских и сельских ж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 туберкулезом, умерших от других причи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актериовыделителей с МЛУ и их дви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оперированных по поводу туберкулеза различной  лок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ГБУЗ «ЗККФПЦ », ННИИТ, ККБ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ых, прибывших из ФСИН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нятых с диспансерного учета в отчетном г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лиц с ВИЧ/ТБ, раздельно впервые выявленные и континген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ную численность населения  района (всего, дети, подростк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ет за 2019г. по профилактическим осмотрам населения, в бумажном варианте и 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лектронном (Еxce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ии форм диспансерного наблюдения больных туберкулезом ф – 30/04 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тчетные данные, отраженные в нескольких отчетных формах, должны во всех формах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т.ч.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е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мунодиагностика (проба Манту 2те, ДС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евое обследование (флюорография, РГР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ингенты всех групп «Д» учета,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Требования к составлению годового отчета за 2019 год</a:t>
            </a:r>
            <a:br>
              <a:rPr sz="2400"/>
            </a:b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по противотуберкулезной работе среди населения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еред сдачей годового отчета будет проводиться контроль ведения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Федерального регистра, лиц больных тубекулезом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При наличии расхождений отчет  </a:t>
            </a:r>
            <a:r>
              <a:rPr b="1" i="1" lang="ru-RU" sz="3200" spc="-1" strike="noStrike">
                <a:solidFill>
                  <a:srgbClr val="c00000"/>
                </a:solidFill>
                <a:latin typeface="Arial Black"/>
              </a:rPr>
              <a:t>принят не буд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503280" y="115920"/>
            <a:ext cx="86407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Правила заполнения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форм № 8 и №33 и </a:t>
            </a: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типичные ошиб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Елена Александровна Бронникова</cp:lastModifiedBy>
  <dcterms:modified xsi:type="dcterms:W3CDTF">2019-12-20T00:53:54Z</dcterms:modified>
  <cp:revision>90</cp:revision>
  <dc:subject/>
  <dc:title>Недочеты при составлении форм ФСН №№ 30,47,12. Сопоставление данных из разных форм с формами №№ 8 и 33</dc:title>
</cp:coreProperties>
</file>