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5A78-51E1-47F2-B5F6-ABDBD53564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405-B25D-4000-B68F-EFF5AB2D2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20BB-7532-4A8C-AEFC-E2D4AB26E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76A-FA7A-4147-A0AE-A554D8C42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85E-C7C0-4925-9CED-2757BCC68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A48-2BF1-4E55-AB3F-FF98063E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7F7-6AE2-436D-9DF8-20E4D89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7DB-09C7-44C8-8F63-99635C32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A97-7BCB-4B6F-BF4C-4EFECFF5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163B-3324-4EBC-A9F6-BE03CC3C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C4FA-5C36-4554-8A0D-530053E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10EE-1D9F-432E-9901-B2C26AA2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9595-0D7D-40A5-B351-2F62DBDC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C865-9950-47FF-8FAA-F236C02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BEB-0119-4D13-93EF-AFC7AD6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DA87-7703-47C7-9CFC-E6CAD25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EA6-81C2-409F-AEAF-7839ACF3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8416-4F26-4F21-A1B4-F3EFBAC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147-3F00-447E-A41B-F283BD9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4ADD-D42F-4B17-AAA2-1A024DCE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996E-2C63-4AD6-8947-C40C5882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258F-926D-4CC8-8CBA-3CF85775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86B-C876-4BC3-84FA-1C9BC08B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02B-A84C-4213-9DBD-1BDAC88B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A3D-5741-4661-B934-0765BD3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2D1-3BEA-48BC-A227-DEED690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293-30FF-4C8A-9A04-767B1EC5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D67-312D-46A2-8EA7-18338CF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EC6-EC30-4298-AA7B-E1298AD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B95-1AD8-4DC9-A896-C62C37DA3C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72DF-4D15-424C-B059-A5041E26DA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за 2019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З 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у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оказывается число пациентов, с ВИЧ-инфекцией с проявлениями туберкулё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48A5-46BF-4A4B-A2BB-10655BF79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500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межформенный контроль с формой 13 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ой 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5000 включают женщин, проживающих на прикрепленной территории и находящихся под диспансерным наблюдением в данной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казывается общее число беременных женщин с болезнью, вызванной ВИЧ,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ивших беременность в отчетном год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троке 2 показываются сведения о тех из них, кто завершил беременность родами в отчетно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E8E-543C-4278-8ADF-D5EE66474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3 по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е число пациен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езнью, вызванной ВИЧ, из числа состоявших под наблюдением в отчетном году, зарегистрированных для ле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е 4 - те из них, кто был зарегистрирован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первые в жизни установленным диагноз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афа 5 не заполня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201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3A69-2815-43A7-AC9B-A31C72D51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4F93-038E-4E21-A491-A42A629D7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рочник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ка 1, пункт 2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ловия контроля: строка 1, пункт 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пункт 3 (В20-24)+пункт 4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705A-DFB7-4343-ADE1-8C19802D7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476280"/>
            <a:ext cx="86090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0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обследованных на антитела к ВИЧ в отчетном году, вс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число лиц, у которых при исследовании крови на антитела к ВИЧ получены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контроль с ф.30, т.530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2) выявлено: пациентов больных ВИЧ-инфекцией (код МКБ 10 В20-В24) 3 _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онтроль с ф.61, т.1000, стр.1+2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 с бессимптомным инфекционным статусом (код МКБ-10 Z21)  4</a:t>
            </a:r>
            <a:r>
              <a:rPr b="0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__контроль с ф.61, т.1000, стр.59+60, гр. 05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7000"/>
            <a:ext cx="16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очника 3100, пункт2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37A1-9C52-473C-AA30-C2BD6C407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подстрочника 3100, пункт  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0DA-B8EA-4FDD-8624-7C5B7E33E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 подстрочника 3100,  пункт 1-3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подстрочни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100, пункт 4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.1000, стр.57-58, гр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4F9-D273-4B95-A083-768E238B0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F96-3BE0-45DB-A25D-A9D8743D2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отчетном году – 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E0A3-E423-4897-BBCA-AE13E592F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92120" y="1555920"/>
          <a:ext cx="8228160" cy="4735440"/>
        </p:xfrm>
        <a:graphic>
          <a:graphicData uri="http://schemas.openxmlformats.org/drawingml/2006/table">
            <a:tbl>
              <a:tblPr/>
              <a:tblGrid>
                <a:gridCol w="3384720"/>
                <a:gridCol w="384120"/>
                <a:gridCol w="768240"/>
                <a:gridCol w="923760"/>
                <a:gridCol w="922680"/>
                <a:gridCol w="922320"/>
                <a:gridCol w="922320"/>
              </a:tblGrid>
              <a:tr h="386640"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marL="20520"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с впервые в жизни установленным диагно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ит под диспансерным наблюдением на конец отчетног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возраст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44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, В20.7, 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с проявлениями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инфек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явлениями туберкулеза и других болезней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2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: с бактериовыделением, определяемым любыми метод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5): методом простой микроскопии мокро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5):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ножественн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marL="290520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ирокой лекарственной устойчивостью микобактерий туберкуле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пациентов (из стр.1) обследовано на иммунны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имели уровень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:    более 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-3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ы, больные ВИЧ-инфекцией с проявлениями туберкулеза, которым установлен диагноз вирусного гепатита (из стр.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гепатит 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6, В18.0, В18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патит 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7.1, В18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всего (из стр.1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муж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ациентов (из стр.1) – городских жи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50840"/>
                          <a:tab algn="l" pos="2101680"/>
                          <a:tab algn="l" pos="3152880"/>
                          <a:tab algn="l" pos="4203720"/>
                          <a:tab algn="l" pos="5254560"/>
                          <a:tab algn="l" pos="6305400"/>
                          <a:tab algn="l" pos="7356600"/>
                          <a:tab algn="l" pos="8407440"/>
                          <a:tab algn="l" pos="9458280"/>
                          <a:tab algn="l" pos="105091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565200" y="827640"/>
            <a:ext cx="81565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spAutoFit/>
          </a:bodyPr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 Диспансерное наблюдение за пациентами, больными ВИЧ-инфекцией с проявлениями туберкуле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400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человек – 7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701320" y="2274840"/>
            <a:ext cx="347292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нтроль с ф. 33, т. 2100,стр.13, гр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8"/>
          <p:cNvSpPr/>
          <p:nvPr/>
        </p:nvSpPr>
        <p:spPr>
          <a:xfrm>
            <a:off x="5429160" y="2325600"/>
            <a:ext cx="276480" cy="2588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62680" y="2584440"/>
            <a:ext cx="8823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   т. 2000, стр. 21, 22, 41, гр.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899400" y="2584440"/>
            <a:ext cx="857160" cy="62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нтроль с ф. 61, т. 2000,стр.21,22,41, гр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84040" y="128520"/>
            <a:ext cx="851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600" bIns="39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аблицу 40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только тех пациентов, у которых туберкулез диагностирован как проявление болезни, вызванной ВИЧ, 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е включают пациент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которых туберкулез был выявлен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о установления диагноз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вызванной ВИ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9-12-19T04:25:39Z</dcterms:modified>
  <cp:revision>210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