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82E-4572-4A42-ACD8-6265C04D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F4A-05CF-4A93-9CEC-1862529F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DE5-1552-4712-AC78-168571E3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F9F-3B33-43EC-8203-1CC6B2E9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7CE-4694-40A2-AFB4-A47B37C0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740-5A9F-499B-9A00-B1807A9E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D9E-E4B0-4595-B8C0-371582DE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760-5BB9-492C-AF1E-1689E120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306-C3A0-4AC9-8035-513170B2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282-AD18-44AC-9669-219E52A1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317-A7CF-4024-BEAB-FC2FEB96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677-24A8-495F-9589-33DA7A53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CACC-F7E6-4E3B-9F56-AD9500F609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hitokvd@mail.ru" TargetMode="External"/><Relationship Id="rId2" Type="http://schemas.openxmlformats.org/officeDocument/2006/relationships/hyperlink" Target="mailto:chitokvd@mail.ru" TargetMode="External"/><Relationship Id="rId3" Type="http://schemas.openxmlformats.org/officeDocument/2006/relationships/hyperlink" Target="mailto:chitokvd@mail.ru" TargetMode="External"/><Relationship Id="rId4" Type="http://schemas.openxmlformats.org/officeDocument/2006/relationships/hyperlink" Target="mailto:chitokvd@mail.ru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547640" y="907920"/>
            <a:ext cx="66963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Формы федерального статистического наблюдения по профилю «Дерматовенеролог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908000" y="4508640"/>
            <a:ext cx="5112000" cy="13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medicinadurgenza.org/sites/default/files/education.jpg"/>
          <p:cNvPicPr/>
          <p:nvPr/>
        </p:nvPicPr>
        <p:blipFill>
          <a:blip r:embed="rId2"/>
          <a:srcRect l="4358" t="0" r="0" b="0"/>
          <a:stretch/>
        </p:blipFill>
        <p:spPr>
          <a:xfrm>
            <a:off x="7093080" y="4075200"/>
            <a:ext cx="171108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3780000" y="6237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2019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хема 4" descr=""/>
          <p:cNvPicPr/>
          <p:nvPr/>
        </p:nvPicPr>
        <p:blipFill>
          <a:blip r:embed="rId1"/>
          <a:stretch/>
        </p:blipFill>
        <p:spPr>
          <a:xfrm>
            <a:off x="1816200" y="1816200"/>
            <a:ext cx="7108560" cy="4108320"/>
          </a:xfrm>
          <a:prstGeom prst="rect">
            <a:avLst/>
          </a:prstGeom>
          <a:ln w="0">
            <a:noFill/>
          </a:ln>
        </p:spPr>
      </p:pic>
      <p:sp>
        <p:nvSpPr>
          <p:cNvPr id="46" name="Скругленный прямоугольник 6"/>
          <p:cNvSpPr/>
          <p:nvPr/>
        </p:nvSpPr>
        <p:spPr>
          <a:xfrm>
            <a:off x="1258920" y="189000"/>
            <a:ext cx="7634160" cy="151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 u="sng">
                <a:solidFill>
                  <a:srgbClr val="02376f"/>
                </a:solidFill>
                <a:uFillTx/>
                <a:latin typeface="Verdana"/>
                <a:ea typeface="Times New Roman"/>
              </a:rPr>
              <a:t>ПРИКАЗ РОССТАТА ОТ  29.12.2011 Г. №520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2376f"/>
                </a:solidFill>
                <a:latin typeface="Verdana"/>
                <a:ea typeface="Times New Roman"/>
              </a:rPr>
              <a:t>«Об утверждении статистического инструментария для организации Минздравсоцразвития России федерального статистического наблюдения за деятельностью учреждений системы здравоохран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1187280" y="11592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УЧЕТНАЯ ФОРМА № 089/У-К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«Извещение о больном с вновь установленным диагнозом сифилиса, гонореи, трихомоноза, хламидиоза, герпеса урогенитального, аногенитальными бородавками, микроспории, фавуса, трихофитии, микоза стоп, чесот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rcRect l="9136" t="16025" r="49214" b="7181"/>
          <a:stretch/>
        </p:blipFill>
        <p:spPr>
          <a:xfrm>
            <a:off x="5435640" y="1700280"/>
            <a:ext cx="338436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042920" y="1630440"/>
            <a:ext cx="457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ным статистическим учетным документом, на основании которого ГУЗ «ККВД» собирает информацию о пациентах для формирования отчетных форм федерального статистического наблюдения №9 и №34 по Забайкальскому краю, представляемых в МЗ ЗК и МЗРФ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вляется основанием для передачи информации соответствующим органам Роспотребнадзора для проведения при необходимости комплекса противоэпидемических мероприят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агноз больного указывается строго в соответствии с МКБ-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лучае изменения диагноза при уточнении клинической формы сифилиса заполняется новое извещение под тем же номером, что и предыдуще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479600" y="1341360"/>
            <a:ext cx="7426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100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ТИНГЕНТЫ БОЛЬНЫХ ДАННОГО УЧРЕ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РАФА 10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е количество больных сифилисом состоящих на конец отчетного года, что свидетельствует о недостаточной патронажной рабо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равильно предоставлены сведения по количеству прошлогодних остатков по ряду ИППП и заразным кожным болезн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ОКА 27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общего числа больных, наблюдавшихся в КА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чается наличие значений в райо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971640" y="189000"/>
            <a:ext cx="754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ные ошибки: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.N 34 "Сведения о больных заболеваниями, передаваемыми преимущественно половым путем, грибковыми кожными болезнями и чесоткой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403280" y="1112760"/>
            <a:ext cx="742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 № 2200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явлено больных ИППП и заразными кожными болезн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оответствие значений суммы граф 7 и 4  (обратились самостоятельно по контакту) значениям графы 5 таблицы N 2300 "Выявлено больных всего среди контактов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разница между значенями граф выявлено всего в КВУ (6 графа) и среди контактов (7 граф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БЛИЦА № 240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я о числе родившихся детей, получивших профилактическое и специфическое ле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96960" y="4508640"/>
            <a:ext cx="78516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42920" y="1125360"/>
          <a:ext cx="7491600" cy="5656320"/>
        </p:xfrm>
        <a:graphic>
          <a:graphicData uri="http://schemas.openxmlformats.org/drawingml/2006/table">
            <a:tbl>
              <a:tblPr/>
              <a:tblGrid>
                <a:gridCol w="1328760"/>
                <a:gridCol w="255600"/>
                <a:gridCol w="376200"/>
                <a:gridCol w="374760"/>
                <a:gridCol w="374760"/>
                <a:gridCol w="376200"/>
                <a:gridCol w="376200"/>
                <a:gridCol w="374400"/>
                <a:gridCol w="374760"/>
                <a:gridCol w="466920"/>
                <a:gridCol w="527040"/>
                <a:gridCol w="349200"/>
                <a:gridCol w="557280"/>
                <a:gridCol w="452160"/>
                <a:gridCol w="443160"/>
                <a:gridCol w="484200"/>
              </a:tblGrid>
              <a:tr h="219240"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золог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логические 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п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П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-логи-ческий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ол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рно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-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М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Г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Ф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-нобло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фили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?????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нококков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амидийные инфек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моно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ая герпетическа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ая инфекц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огенитальные (вен.) бородав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пор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хофит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озы кистей и сто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от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"/>
          <p:cNvSpPr/>
          <p:nvPr/>
        </p:nvSpPr>
        <p:spPr>
          <a:xfrm>
            <a:off x="1001880" y="301680"/>
            <a:ext cx="79149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 № 25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ы лабораторной диагностики, применяемые для постановки диагн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7"/>
          <p:cNvSpPr/>
          <p:nvPr/>
        </p:nvSpPr>
        <p:spPr>
          <a:xfrm>
            <a:off x="6659640" y="1192320"/>
            <a:ext cx="452520" cy="865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8"/>
          <p:cNvSpPr/>
          <p:nvPr/>
        </p:nvSpPr>
        <p:spPr>
          <a:xfrm>
            <a:off x="7169040" y="1192320"/>
            <a:ext cx="451080" cy="9014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2960640" y="1378080"/>
            <a:ext cx="452520" cy="6937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9"/>
          <p:cNvSpPr/>
          <p:nvPr/>
        </p:nvSpPr>
        <p:spPr>
          <a:xfrm>
            <a:off x="3676680" y="1378080"/>
            <a:ext cx="45252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4094280" y="1378080"/>
            <a:ext cx="360360" cy="78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11"/>
          <p:cNvSpPr/>
          <p:nvPr/>
        </p:nvSpPr>
        <p:spPr>
          <a:xfrm>
            <a:off x="5724360" y="1177920"/>
            <a:ext cx="452520" cy="901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тчетные формы представляются в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-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 экземпляре, кроме этог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кты расследования и анкеты на врожденный и детский сифилис 0-14 лет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tokvd@mail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(3022)31-42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91435833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1981080" y="907920"/>
            <a:ext cx="615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лагодарю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 baranova</cp:lastModifiedBy>
  <dcterms:modified xsi:type="dcterms:W3CDTF">2019-12-18T03:38:37Z</dcterms:modified>
  <cp:revision>28</cp:revision>
  <dc:subject/>
  <dc:title>Шаблон презентации</dc:title>
</cp:coreProperties>
</file>