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9DD9-B9C9-4D03-97DB-DD926C2B6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9029-B6C5-4402-8EE5-8D7D5C893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0012-9D70-4831-B131-B3BBAE76F3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9EFD-3210-4C91-AC46-A8697FB32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DF51-ED8B-4E4D-9FBA-88C5C6783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0827-8722-450E-B8C0-64BCD4574F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30DB-9107-4B12-89EF-D088A0EE1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0320-374E-4335-83F4-70B3443FA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4903-2152-40FF-81FF-283CBAF76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606E-C945-45F5-87B8-3268CE0D2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D759-1722-405E-8DC2-B62804FE0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3EF-DE53-4191-9AAE-7A76F81C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5BC-A4DF-4453-AA5E-3CD9E04E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E09-D818-4C59-A7AD-A10F033D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899-063E-4ED4-8C7E-71543B69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580-651A-4189-9F07-3460C4E2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F9C-2792-4B5F-86E3-EA3FF493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2F2-7E3B-4BE8-9550-9E4BD66F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6BF-0DA9-4D04-85E4-3C506964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273-FF7A-4F42-8F13-138036E6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6FF-0A16-41D9-917D-439C6B5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FAC-1D8C-481E-BF37-7F1BE2CA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C89-CFE9-498E-840C-F66881F1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B09A-3317-41AB-B1EB-C3670D65F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0680" y="1641960"/>
            <a:ext cx="86662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А ФЕДЕРАЛЬНОГО СТАТИСТИЧЕСКОГО НАБЛЮ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6-ВН «СВЕДЕНИЯ О ПРИЧИНАХ ВРЕМЕННОЙ НЕТРУДОСПОСОБ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3024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сведений для заполнения формы 16-ВН является  «Книга регистрации листков нетрудоспособности» (Ф.№036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34920" y="-27000"/>
            <a:ext cx="8858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6 – В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а приказом Росстата № 723 от 25.12.2014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лучаев подсчитывается только по закрытым (по данному случаю) листкам нетрудо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01680" y="3935520"/>
            <a:ext cx="713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у 16-ВН включаются све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дней временной нетрудоспособности (ВН) - графа 5 - п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,  по  причинам В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числе случаев ВН – в графу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с 7 по 16 – число случаев ВН, распределенных по пятилетним  возрастным груп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648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8000" y="633240"/>
          <a:ext cx="9036000" cy="4486320"/>
        </p:xfrm>
        <a:graphic>
          <a:graphicData uri="http://schemas.openxmlformats.org/drawingml/2006/table">
            <a:tbl>
              <a:tblPr/>
              <a:tblGrid>
                <a:gridCol w="718920"/>
                <a:gridCol w="649440"/>
                <a:gridCol w="431640"/>
                <a:gridCol w="459000"/>
                <a:gridCol w="909720"/>
                <a:gridCol w="863640"/>
                <a:gridCol w="502920"/>
                <a:gridCol w="433440"/>
                <a:gridCol w="574920"/>
                <a:gridCol w="433080"/>
                <a:gridCol w="432000"/>
                <a:gridCol w="503280"/>
                <a:gridCol w="576360"/>
                <a:gridCol w="504720"/>
                <a:gridCol w="477720"/>
                <a:gridCol w="565200"/>
              </a:tblGrid>
              <a:tr h="2800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-цион-ные и паразитарные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 - B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54000" y="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187280" y="960120"/>
            <a:ext cx="7110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еднюю длительность ЛН по всем ноз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 прошлым г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34920" y="1890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ПРИ З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36360" y="981000"/>
            <a:ext cx="1152720" cy="1225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197000" y="2479680"/>
            <a:ext cx="711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редняя длительность ВН изменилась более, чем на 10% по сравнению с предыдущим годом - объяснить прич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197000" y="4006800"/>
            <a:ext cx="7054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 по туберкулезу показывают только МО, оказ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ую (противотуберкулезную) медицинску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187280" y="5533920"/>
            <a:ext cx="711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, обслуживающие детское население, заполняют строки 53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ход за больным» и ЛН, выданные работающим подростка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чинам В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3"/>
          <a:stretch/>
        </p:blipFill>
        <p:spPr>
          <a:xfrm>
            <a:off x="49320" y="2494080"/>
            <a:ext cx="1150920" cy="121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42840" y="4005360"/>
            <a:ext cx="115272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49320" y="553572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160" y="836640"/>
          <a:ext cx="9094680" cy="3779640"/>
        </p:xfrm>
        <a:graphic>
          <a:graphicData uri="http://schemas.openxmlformats.org/drawingml/2006/table">
            <a:tbl>
              <a:tblPr/>
              <a:tblGrid>
                <a:gridCol w="1171440"/>
                <a:gridCol w="803520"/>
                <a:gridCol w="447480"/>
                <a:gridCol w="534960"/>
                <a:gridCol w="1068480"/>
                <a:gridCol w="1001520"/>
                <a:gridCol w="438480"/>
                <a:gridCol w="431640"/>
                <a:gridCol w="431640"/>
                <a:gridCol w="384480"/>
                <a:gridCol w="385560"/>
                <a:gridCol w="385920"/>
                <a:gridCol w="384120"/>
                <a:gridCol w="384120"/>
                <a:gridCol w="420840"/>
                <a:gridCol w="4204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ременность, роды и послеродо-вой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00 - O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3"/>
          <p:cNvSpPr/>
          <p:nvPr/>
        </p:nvSpPr>
        <p:spPr>
          <a:xfrm>
            <a:off x="0" y="4797360"/>
            <a:ext cx="9058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ы все заболевания, являющиеся осложнением беременности, до декретного отпуска, а также осложнения после родов на протяжении всего послеродового периода. Также в этой строке указываются сведения о ВН по причине абортов (из строки 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4797360"/>
            <a:ext cx="909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1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 же строки включают случаи, связанные с протезированием, выполнением донорских функций, обследованием, в результате которого пациенту был поставлен диагноз «здоров» (ххı класс МКБ-Х «факторы, влияющие на состояние здоровья населения и обращения в медицинские организации ( с профилактическими и иными целями). Представить пояснительн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6360" y="766800"/>
          <a:ext cx="9180360" cy="3957480"/>
        </p:xfrm>
        <a:graphic>
          <a:graphicData uri="http://schemas.openxmlformats.org/drawingml/2006/table">
            <a:tbl>
              <a:tblPr/>
              <a:tblGrid>
                <a:gridCol w="1117440"/>
                <a:gridCol w="746280"/>
                <a:gridCol w="500040"/>
                <a:gridCol w="993600"/>
                <a:gridCol w="995400"/>
                <a:gridCol w="903240"/>
                <a:gridCol w="425520"/>
                <a:gridCol w="415800"/>
                <a:gridCol w="416160"/>
                <a:gridCol w="334800"/>
                <a:gridCol w="335160"/>
                <a:gridCol w="333360"/>
                <a:gridCol w="415800"/>
                <a:gridCol w="417600"/>
                <a:gridCol w="414360"/>
                <a:gridCol w="41580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сем прич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1280" y="-27000"/>
            <a:ext cx="925164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836640"/>
          <a:ext cx="9105840" cy="3779640"/>
        </p:xfrm>
        <a:graphic>
          <a:graphicData uri="http://schemas.openxmlformats.org/drawingml/2006/table">
            <a:tbl>
              <a:tblPr/>
              <a:tblGrid>
                <a:gridCol w="1152360"/>
                <a:gridCol w="806760"/>
                <a:gridCol w="449280"/>
                <a:gridCol w="536400"/>
                <a:gridCol w="1073160"/>
                <a:gridCol w="1004760"/>
                <a:gridCol w="439920"/>
                <a:gridCol w="433440"/>
                <a:gridCol w="433440"/>
                <a:gridCol w="385560"/>
                <a:gridCol w="387360"/>
                <a:gridCol w="387360"/>
                <a:gridCol w="385920"/>
                <a:gridCol w="385560"/>
                <a:gridCol w="422280"/>
                <a:gridCol w="422280"/>
              </a:tblGrid>
              <a:tr h="321480"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фр по МКБ X пере-смо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ней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времен-ной нетрудо-способ-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возрастам (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- 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-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-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-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лет и стар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уск по беремен-ности и род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14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"/>
          <p:cNvSpPr/>
          <p:nvPr/>
        </p:nvSpPr>
        <p:spPr>
          <a:xfrm>
            <a:off x="-27000" y="4797360"/>
            <a:ext cx="905832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ь рожавшие в возрасте 50-54 и 55-59 лет, то обязательно должны быть предоставлены документы, подтверждающие факт родов (№ больничного листа, выписка из родильного до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роке не должны указывать отпуск по уходу за малолетн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147600" y="-31608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9320" y="187200"/>
            <a:ext cx="8858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  <a:ea typeface="Arial"/>
              </a:rPr>
              <a:t>Таблица 2610 в Ф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-71280" y="766800"/>
            <a:ext cx="9251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1042920" y="29671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уется на основании данных медицинских организаций. Отражается количество инвалидов, которые состоят на уч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Админ\Desktop\папка Рониса\Бизнес\Другие бизнес проекты\Диплом\Моё\ИАР_Шовдра О.Л\октябрь 2018\Презентация\Фон.png"/>
          <p:cNvPicPr/>
          <p:nvPr/>
        </p:nvPicPr>
        <p:blipFill>
          <a:blip r:embed="rId1"/>
          <a:stretch/>
        </p:blipFill>
        <p:spPr>
          <a:xfrm>
            <a:off x="-74520" y="-36360"/>
            <a:ext cx="9252000" cy="688500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1835280" y="1471680"/>
            <a:ext cx="5317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Спасибо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за внимание</a:t>
            </a:r>
            <a:r>
              <a:rPr b="0" lang="en-US" sz="5400" spc="-1" strike="noStrike">
                <a:solidFill>
                  <a:srgbClr val="002060"/>
                </a:solidFill>
                <a:latin typeface="Arial Black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79280" y="4797360"/>
            <a:ext cx="792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овдра Ольга Леонид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-mail: olgashovdra@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л. 8(914) 439-07-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0:10:09Z</dcterms:created>
  <dc:creator>Светлана</dc:creator>
  <dc:description/>
  <dc:language>en-US</dc:language>
  <cp:lastModifiedBy>Елена Александровна Бронникова</cp:lastModifiedBy>
  <dcterms:modified xsi:type="dcterms:W3CDTF">2019-12-20T01:12:39Z</dcterms:modified>
  <cp:revision>403</cp:revision>
  <dc:subject/>
  <dc:title>Слайд 1</dc:title>
</cp:coreProperties>
</file>