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725-B7DC-48F3-BFD9-DAA158CB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199-3A2A-44C2-AB29-53563031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4C6-1394-4E0D-BB90-71FFECAE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3CF-E228-496B-B827-739B8E5A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D6D-7821-40CC-98EB-DE08C580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48E5-1B7D-4107-8453-BE57A38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BE35-DD72-4902-80CE-ED805B68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D59-B64B-4280-95A2-71A964D0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6F00-8D08-4B72-A0B6-2E190427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E635-43BC-4E61-AA2F-9136C2D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B9C1-EC75-47C9-91AC-AD79259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D5D-C3BC-400B-A93C-4BF4FD9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40E-BD2A-4E8D-AB80-BF6FF43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C95A-AFDF-40CC-8267-A0AC63F2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0BAF-297A-4F74-BA17-D496F5C8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6D2D-2744-4EE5-8014-69B17CB2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561D-3D96-42D5-8397-40726F4F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AAE-65D2-4AF3-B512-3ECD663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805-AA26-402C-846D-8BD2581F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707-3EA9-4DC7-9559-55F678A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EA1-4F05-4F37-9673-29A5ADF9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077-933F-47A5-950B-DA98CA11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9E5-D439-40B3-9B69-76D43BB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ACD-01EB-4948-99CD-A9AF9BC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B143-0E1F-4AD1-A108-6B9FF91067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524F-F888-4FFB-8C23-00C60F0F8109}" type="slidenum">
              <a:rPr b="0" lang="ru-RU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irg.ru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ЗДЕЛ </a:t>
            </a:r>
            <a:r>
              <a:rPr b="1" lang="en-US" sz="5400" spc="-1" strike="noStrike">
                <a:solidFill>
                  <a:srgbClr val="000000"/>
                </a:solidFill>
                <a:latin typeface="Calibri Light"/>
              </a:rPr>
              <a:t>VI</a:t>
            </a: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РАБОТА ДИАГНОСТИЧЕСКИХ ОТДЕЛЕНИЙ (КАБИНЕТОВ)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занцев Константин Борисо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049000" y="577044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9.12.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87760"/>
          <a:ext cx="10515600" cy="420696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еоденситометры рентгенов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вские аппараты всего (без компьютерных томограф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Р томограф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менее 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ля костей и суставов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3,0 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явочные автоматы и ка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915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3000" rIns="630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838080" y="1625760"/>
          <a:ext cx="10515600" cy="195084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48780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9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агнитно-резонансные томографи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690560"/>
          <a:ext cx="10515600" cy="4587840"/>
        </p:xfrm>
        <a:graphic>
          <a:graphicData uri="http://schemas.openxmlformats.org/drawingml/2006/table">
            <a:tbl>
              <a:tblPr/>
              <a:tblGrid>
                <a:gridCol w="4560840"/>
                <a:gridCol w="682920"/>
                <a:gridCol w="785520"/>
                <a:gridCol w="1657440"/>
                <a:gridCol w="1658880"/>
                <a:gridCol w="11700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внутривенным 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 3 выполне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условиях дневного стацион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выполнено М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4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их и средос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и забрюшинного простра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ой желе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и спин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: шейн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удного отдела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яснично-крестцового отде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“голова-шея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ей, суставов и мягких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осу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венционные вмешательства под МРТ – контролем (из стр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Box 2"/>
          <p:cNvSpPr/>
          <p:nvPr/>
        </p:nvSpPr>
        <p:spPr>
          <a:xfrm>
            <a:off x="6719760" y="4782960"/>
            <a:ext cx="4891320" cy="14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ум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отделов позвоночника по аналогии с 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 строки для подсчета исследований сосу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3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niirg.ru</a:t>
            </a:r>
            <a:br>
              <a:rPr sz="80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ЕСКИД (ЕДИНАЯ СИСТЕМА КОНТРОЛЯ И УЧЕТА ИНДИВИДУАЛЬНЫХ ДОЗ ОБЛУЧЕНИЯ ГРАЖДАН)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-1,2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обновление от 11.12.2019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з – 3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новление от 10.01.2019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ЗАНЦЕВ КОНСТАНТИН БОРИСОВИЧ</a:t>
            </a:r>
            <a:br>
              <a:rPr sz="4400"/>
            </a:br>
            <a:br>
              <a:rPr sz="4400"/>
            </a:br>
            <a:r>
              <a:rPr b="1" lang="ru-RU" sz="9600" spc="-1" strike="noStrike">
                <a:solidFill>
                  <a:srgbClr val="000000"/>
                </a:solidFill>
                <a:latin typeface="Calibri Light"/>
              </a:rPr>
              <a:t>8-924-272-8882</a:t>
            </a:r>
            <a:br>
              <a:rPr sz="9600"/>
            </a:br>
            <a:br>
              <a:rPr sz="9600"/>
            </a:br>
            <a:r>
              <a:rPr b="1" lang="en-US" sz="7200" spc="-1" strike="noStrike">
                <a:solidFill>
                  <a:srgbClr val="000000"/>
                </a:solidFill>
                <a:latin typeface="Calibri Light"/>
              </a:rPr>
              <a:t>dr.kazancev2017@yandex.ru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8238960" y="6215040"/>
            <a:ext cx="1428840" cy="142920"/>
          </a:xfrm>
          <a:custGeom>
            <a:avLst/>
            <a:gdLst/>
            <a:ahLst/>
            <a:rect l="l" t="t" r="r" b="b"/>
            <a:pathLst>
              <a:path w="1428750" h="142875">
                <a:moveTo>
                  <a:pt x="0" y="142875"/>
                </a:moveTo>
                <a:lnTo>
                  <a:pt x="1428750" y="142875"/>
                </a:lnTo>
                <a:lnTo>
                  <a:pt x="1428750" y="0"/>
                </a:lnTo>
                <a:lnTo>
                  <a:pt x="0" y="0"/>
                </a:lnTo>
                <a:lnTo>
                  <a:pt x="0" y="14287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20824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1919160" y="115920"/>
            <a:ext cx="837432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25192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165240" y="179280"/>
            <a:ext cx="112554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Я, ВНОСИМЫЕ В ФОРМУ ФЕДЕР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СТИЧЕСКОГО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ЛЮДЕНИЯ №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водятся большие изменения в раздел 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 ДИАГНОСТИЧЕСКИХ ОТДЕЛЕНИЙ (КАБИНЕТОВ)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00 «Рентгенодиагностические исследования (без профилактических исследований)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 511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нтгенохирургия, рентгеноэндоваскулярные диагностика и леч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5114 «Рентгенологические профилактические (скрининговые) обследова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7 «Аппараты и оборудование для лучевой диагности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гнитно-резонансные томограф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диагностические исследования 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без профилактических исследовани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847360" cy="2328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Изображение выглядит как экран, здание, легкий, сидит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073400"/>
            <a:ext cx="89154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82044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Изображение выглядит как экран, здание, легкий, часы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52480" y="3863880"/>
            <a:ext cx="8204040" cy="1889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7566120" y="5091120"/>
            <a:ext cx="42926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ы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а денситометрия 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00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1. Рентгенодиагностические исследования (без профилактических исследований)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Рисунок 5" descr="Изображение выглядит как снимок экрана&#10;&#10;Автоматически созданное описание"/>
          <p:cNvPicPr/>
          <p:nvPr/>
        </p:nvPicPr>
        <p:blipFill>
          <a:blip r:embed="rId1"/>
          <a:stretch/>
        </p:blipFill>
        <p:spPr>
          <a:xfrm>
            <a:off x="838080" y="1735200"/>
            <a:ext cx="9107640" cy="23972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Изображение выглядит как экран, здание, часы, большой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838080" y="4118040"/>
            <a:ext cx="9107640" cy="1881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rcRect l="-274" t="-39826" r="21380" b="-18605"/>
          <a:stretch/>
        </p:blipFill>
        <p:spPr>
          <a:xfrm>
            <a:off x="825480" y="5904000"/>
            <a:ext cx="9107640" cy="284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7643880" y="5167440"/>
            <a:ext cx="4292640" cy="143640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 томосинтез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ы околоносовые пазухи, челюсти и  височная к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влены кресты в ячейках, кото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 не заполняю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3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омпьютерная томограф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494000"/>
          <a:ext cx="10515600" cy="4846320"/>
        </p:xfrm>
        <a:graphic>
          <a:graphicData uri="http://schemas.openxmlformats.org/drawingml/2006/table">
            <a:tbl>
              <a:tblPr/>
              <a:tblGrid>
                <a:gridCol w="4192560"/>
                <a:gridCol w="685800"/>
                <a:gridCol w="1094040"/>
                <a:gridCol w="1552320"/>
                <a:gridCol w="1552680"/>
                <a:gridCol w="1438200"/>
              </a:tblGrid>
              <a:tr h="1828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и 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 3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внутривенного контрас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внутривенным контрастир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головного моз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колоносовых паз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сочной 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 шеи, гортани и гортаногл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сти груди (без сердца и коронарных сосуд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ца и коронар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брюшной полости (печень,  селезенка,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желудочная же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ек и мочевых пу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малого та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звоночника, из н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шейный отдел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грудной отде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воночника (поясничный и крестцовый  отдел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остей, суставов и мягких тканей конеч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2001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c55a11"/>
                          </a:solidFill>
                          <a:latin typeface="Calibri"/>
                        </a:rPr>
                        <a:t>прочих органов и сист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нгиография иных сосу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TextBox 1"/>
          <p:cNvSpPr/>
          <p:nvPr/>
        </p:nvSpPr>
        <p:spPr>
          <a:xfrm>
            <a:off x="7445520" y="4572000"/>
            <a:ext cx="409392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нумер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ы височны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и и околоносовые пазух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ы отделв позвоноч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ы, коненчости и кости таза объеденин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ы столбцы 4 и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5114.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Рентгенологические 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профилактические 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скрининговые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) об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709640"/>
          <a:ext cx="10515600" cy="4456080"/>
        </p:xfrm>
        <a:graphic>
          <a:graphicData uri="http://schemas.openxmlformats.org/drawingml/2006/table">
            <a:tbl>
              <a:tblPr/>
              <a:tblGrid>
                <a:gridCol w="6042240"/>
                <a:gridCol w="596880"/>
                <a:gridCol w="893520"/>
                <a:gridCol w="1492560"/>
                <a:gridCol w="1490400"/>
              </a:tblGrid>
              <a:tr h="23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ям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цам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в грудной клетки, всего,  в том числе выполнено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леночных флюорограф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пленочных флюорографических установках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флюорографах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передвижных цифровых флюорографических устано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графий на пл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изкодозных компьютерных томограф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ентгеновских профилактических исследований молочных же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 них выполнено:  на пленочных аппара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цифровых аппаратах и аппаратах, оснащенных систем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ьютерной радиограф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передвижных маммографических установка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а аппаратах с функцией томосин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7" name="TextBox 1"/>
          <p:cNvSpPr/>
          <p:nvPr/>
        </p:nvSpPr>
        <p:spPr>
          <a:xfrm>
            <a:off x="7605720" y="4708440"/>
            <a:ext cx="4194000" cy="20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1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.1 добавлено "в том числе ... пленочны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а строка 1.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у 2 добавлено слово "рентгеновских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ка строк 4, 8  (старая таблица) "на цифровых аппаратах и системах  компьютерной радиографии"  изменена на  "на цифровых аппаратах и аппаратах, оснащенных системой компьютерной радиографи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725480"/>
          <a:ext cx="10515600" cy="5029200"/>
        </p:xfrm>
        <a:graphic>
          <a:graphicData uri="http://schemas.openxmlformats.org/drawingml/2006/table">
            <a:tbl>
              <a:tblPr/>
              <a:tblGrid>
                <a:gridCol w="4494240"/>
                <a:gridCol w="658800"/>
                <a:gridCol w="1033560"/>
                <a:gridCol w="1224000"/>
                <a:gridCol w="846000"/>
                <a:gridCol w="1128960"/>
                <a:gridCol w="1130040"/>
              </a:tblGrid>
              <a:tr h="15696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472c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управляемые поворотные столы-штативы с функцией рентген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3 рабочих мес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2 рабочих ме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одиагностические комплексы на 1 рабочее мест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еночные флюор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шасси автомоби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латны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рентгенотелевизионные установки типа С-д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уролог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ммографические аппа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функцией томосинте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аппара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рицельные (радиовизи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орамные томографы (ортопантомограф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цифров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52640">
                <a:tc>
                  <a:txBody>
                    <a:bodyPr lIns="56880" rIns="56880" tIns="0" bIns="0" anchor="ctr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тальные томограф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иографические аппараты стационар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5117.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ппараты и оборудование для лучевой  диагностики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249640"/>
          <a:ext cx="10515600" cy="3063600"/>
        </p:xfrm>
        <a:graphic>
          <a:graphicData uri="http://schemas.openxmlformats.org/drawingml/2006/table">
            <a:tbl>
              <a:tblPr/>
              <a:tblGrid>
                <a:gridCol w="4659480"/>
                <a:gridCol w="682560"/>
                <a:gridCol w="1073160"/>
                <a:gridCol w="1266840"/>
                <a:gridCol w="785880"/>
                <a:gridCol w="876240"/>
                <a:gridCol w="1171440"/>
              </a:tblGrid>
              <a:tr h="274680"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ппаратов и обору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1224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12240">
                      <a:solidFill>
                        <a:srgbClr val="4472c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подразделениях, оказывающих медицинскую помощь в амбулаторных условия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1224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-щ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 сроком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луатации свыш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подразделениях, оказывающих медицинскую помощь в амбулаторных условиях (из гр. 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880" marR="5688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1224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пошаг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односрез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ральные многосрезов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 ч.: менее 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-40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4 ср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 и более сре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4472c4"/>
                      </a:solidFill>
                    </a:lnL>
                    <a:lnR w="5760">
                      <a:solidFill>
                        <a:srgbClr val="4472c4"/>
                      </a:solidFill>
                    </a:lnR>
                    <a:lnT w="5760">
                      <a:solidFill>
                        <a:srgbClr val="4472c4"/>
                      </a:solidFill>
                    </a:lnT>
                    <a:lnB w="5760">
                      <a:solidFill>
                        <a:srgbClr val="4472c4"/>
                      </a:solidFill>
                    </a:lnB>
                    <a:solidFill>
                      <a:srgbClr val="4472c4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7:34:54Z</dcterms:created>
  <dc:creator>Игорь Тюрин</dc:creator>
  <dc:description/>
  <dc:language>en-US</dc:language>
  <cp:lastModifiedBy>Елена Александровна Бронникова</cp:lastModifiedBy>
  <dcterms:modified xsi:type="dcterms:W3CDTF">2019-12-20T01:15:28Z</dcterms:modified>
  <cp:revision>32</cp:revision>
  <dc:subject/>
  <dc:title>Работа диагностических отделений</dc:title>
</cp:coreProperties>
</file>