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EDB-E086-498A-9813-EB0E36AC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189-95E6-4AC5-8F7A-3CDC91F2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738-6108-4577-88DF-AE6ACB3C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7EC-1EE6-44A8-B2D1-4BAB9E52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68A8-FAE3-494C-87F3-FF548F1A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8389-DC3C-46A0-A594-BF358FBD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A73F-3F11-4569-83FF-9C24C36E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508C-470D-490C-BFD3-9033F3A4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0F6A-AB9F-401C-90C1-9826F4E0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770D-79B0-4A6F-A157-C71E335C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829E-879B-47EF-AA88-B03E4DB9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9CC-939E-4EC3-ACB4-35E4EDBE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C918-8776-43C0-BB5D-787D8B14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E7CC-3F4A-492F-BC94-0F11B284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D1A9-379F-426C-9F37-2583F144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4DF0-494E-4001-8085-90C8EEAC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AE5D-BF33-4F10-A07B-212340B5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8110-F551-4D88-95B6-BB606787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DE68-5698-4062-8414-721C7046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35F5A-2285-43BA-9276-B84CAF06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B346-06B0-425B-949E-9A1DEE24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601A-99C6-4458-91A3-F374440C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269-D945-4198-8F78-998E4AB2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DBA6-67B1-4420-9B1A-2430841B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25DB-70AC-436C-A1F2-D3E7110A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20FC-B18C-434C-BAFF-68A6E7D8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5848-D47D-4EC2-8525-CA4DCD6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638E-F3A2-47BC-B22D-ECCC6B04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028C-DF5C-493A-9E41-8EAC1A53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9CB3-3B24-41CC-86B0-167EF31D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7E490-8FF7-485D-A56E-A52E4EE0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AF9D-E971-4581-9025-641DE8B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F928-E1C6-48BA-9012-499B58D9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86C-F6C0-4645-BAFC-BD6E0463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28292-1C7E-4773-B14C-CE4F9023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4E8D4-A121-45C1-964B-928106B0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CAC9-D910-4EDA-8689-9F114AC8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425F-7A49-4327-97E3-4656962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32E68-75C7-4939-AE1D-E56D551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96C8-E563-44ED-8271-5849ED98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A0FF-A329-4196-85F0-BB18843D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E44D-5F49-4752-9327-C9DDE6CA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9A0E6-C802-45E6-ABE6-F7F5E575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107-53B3-476E-B0F2-06F8C81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443-5B05-4E06-8C2D-788B62A6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446-B6E0-41D2-A621-574CA9C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E89-295F-47C7-9ABE-832F57F9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A52-BAFF-4220-8F18-F5928BF6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885F-334F-4214-8D96-10C26FC2EA9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22C3-6951-451B-A292-E4206450985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7273-842F-4244-970D-424A2F75F72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0000-E212-4096-95C5-1733B52771A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8070840" cy="3949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15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onstantia"/>
              </a:rPr>
              <a:t>Брендирование автомобилей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ализация мероприятий по приобретению медицинского автомобильного транспорта в 2021-2022г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Главная медсестра\Desktop\авто у приемного — копия.jpg"/>
          <p:cNvPicPr/>
          <p:nvPr/>
        </p:nvPicPr>
        <p:blipFill>
          <a:blip r:embed="rId1"/>
          <a:stretch/>
        </p:blipFill>
        <p:spPr>
          <a:xfrm>
            <a:off x="457200" y="262728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Главная медсестра\Desktop\авто у гаража.jpg"/>
          <p:cNvPicPr/>
          <p:nvPr/>
        </p:nvPicPr>
        <p:blipFill>
          <a:blip r:embed="rId2"/>
          <a:stretch/>
        </p:blipFill>
        <p:spPr>
          <a:xfrm>
            <a:off x="4648320" y="26272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воорловская участковая больниц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1 год – 16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2 год - 1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Users\Главная медсестра\Desktop\нуб нива.jp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xuJLec</dc:creator>
  <dc:description/>
  <dc:language>en-US</dc:language>
  <cp:lastModifiedBy>Главная медсестра</cp:lastModifiedBy>
  <dcterms:modified xsi:type="dcterms:W3CDTF">2022-11-11T09:06:4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