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D4C-C827-4504-8B4B-0D4E9F3F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34C-10D7-4A97-870E-F87FB53E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8F7-29A9-41A1-B235-30F434A1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975-1C8B-4F23-BEE1-76ACA5F0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7348-121F-4517-9EDB-46C494D3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5902-B112-435A-A560-43E860F2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ED90-D3D5-4628-B52E-2653DF9A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745A-9545-4617-98BB-283DD919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ED3F-5640-473F-9E12-C656D5AD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9C98-DC3C-45C2-95AA-3EB44608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9692-107A-4694-B0C7-74CEC1A6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21D-8874-461A-A5A0-9277D261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46AB-A2D4-438B-8CEF-BE5E11C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DD85-962C-4F10-9E4E-81A0525E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7266-40DE-4A03-97D6-5C4AA0D9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00A1-F921-4B0E-A6E1-203742B6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822D-7403-44AE-B55A-9E07BE67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732-C688-4BEF-84FD-1525C21B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37F-F216-43ED-BF90-6EDA9E8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BFC-57DE-4AC0-AE7B-52D555B7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F10-FECF-40AA-B820-124B199E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7C5-222E-41F9-B20D-174AF481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D0F-ADB1-410C-B87D-6917CE5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FE4-6EB5-4A99-80FF-CA75A81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3EAC-4FE1-4CE7-9B97-039EED35D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3651-4D89-40F9-84F4-608FEDAAB0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заполн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 №№ 8 и 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ичны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ы несогласования данных по туберкулезу в разных отчетных фор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1 Роспотребнадзора – в/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ф.61 - сочетанная инфекция ВИЧ/ТБ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- умершие от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– инвалиды по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2(роддома) и ф.6 Роспотребнадзора – вакцинированные 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оворожде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0 и ф.33 выявленные ФЛГ и бактериоскопией больные туберкулез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12 различается кодировка детей из 6 группы учета по 109 приказу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76.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по инструкции к 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Z03.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7ТБ-ФСИН различаются по количеству впервые выявленных больных во ФС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2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2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2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2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2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2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2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5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Формой №30-село,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.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ичны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полнены строки Ф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ой учет посмертно выявл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е формирование строк «Иностранные жители» и «Жители других территорий». Не надо бояться увеличения показателя заболеваемости за счет мигран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ытка подогнать значения строк по выявлению бактериовыделителей среди в/в так, чтобы сумма выявления разными методами равнялась количеству людей-бактериовыдел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ZavOtdel</cp:lastModifiedBy>
  <dcterms:modified xsi:type="dcterms:W3CDTF">2018-12-21T03:50:57Z</dcterms:modified>
  <cp:revision>74</cp:revision>
  <dc:subject/>
  <dc:title>Недочеты при составлении форм ФСН №№ 30,47,12. Сопоставление данных из разных форм с формами №№ 8 и 33</dc:title>
</cp:coreProperties>
</file>