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29A-F8A1-4E6C-9D35-FFDBD699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608-0720-4881-8F7D-2E9E8127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34F-311D-46C9-BC22-904EC980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323-C9E3-429E-B807-B968DF9D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742C-3D46-4375-9551-BC3A8085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F296-7D54-4217-89CA-19D96494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AB54-9C8F-4BA8-A527-EB8EDA36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DC14-BC4B-4290-B93F-4861DBA5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4BE8-5FCC-451C-B194-372FF71E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EEB7-64B7-4DE8-AB97-CCF81877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9D6-8C45-4F67-AA66-DA027710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AFC-11EF-499E-8774-229F711B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3479-3498-4B01-BAB8-9AA52A85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16D3-361C-4979-8431-042A84AA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66E6-4D6A-4E56-88EC-8607909F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2A5F-AC92-4BD7-88A1-62581C36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CB1F-B14E-4CD6-B684-C2C2C500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B3394-3A14-444D-80F5-1CC60C57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980A5-13BB-485E-9165-9C836E3F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C98CB-50C9-4F1C-837D-3BB8C7C6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9BB75-5802-4596-BEBB-74C4C6C5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A2FF2-AA99-415E-9756-3D206ED7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34F-6013-442A-9257-350AACED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F7E9A-B6E3-4580-A203-176F6A29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10A52-C92C-4E70-B167-B0C8B075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6BDE4-0D80-42CB-A33B-63EA17B2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1E9CB-9606-4031-83EC-166D3951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2C685-8DD0-4294-88A6-E8271BFD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49E4D-5E28-4CC7-AF23-0921DB06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A91E3-953E-4451-89D7-3E19943F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C875-6A68-4C01-8411-D4C697CC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13102-CCD1-4C06-A622-FB5AFEC8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CF52D-40B2-4924-8B8A-674A3576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11F-AFA0-4F29-B653-5B9AAAC2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69002-BAB6-412A-B7A4-41CD0863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A5E7E-D4C9-4F98-B34D-505D32A9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F8164-74D2-49D8-87F6-52EDB14A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2962B-A7E4-4E17-820F-47EB3354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902B-723D-460A-9307-E8BEA601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B1A00-9C12-4BD1-8E24-1A73E7FB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50DD2-DF76-4473-8DAB-AB48F7AD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9AFD2-CB6F-4C40-980C-F3A222F0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6AF61-C242-499E-AC0C-7AD9EA12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534-3352-4740-A001-A3AFCF05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B4C-914F-4787-9C14-4C54C365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97E-BED0-4912-B55E-253D1DDD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7D7-513B-4D87-920E-09D354B1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72C-2977-4F18-9993-F561FFFE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4BD3-C8FB-4578-93B7-B1FF61B4F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D235-7087-40C3-B528-2CBD5AC35B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B0DB-33FE-42E5-984A-D7F6CC830B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51E9-D6E5-4F2D-B405-D69AEBC0E2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Таблица 3" descr=""/>
          <p:cNvPicPr/>
          <p:nvPr/>
        </p:nvPicPr>
        <p:blipFill>
          <a:blip r:embed="rId1"/>
          <a:stretch/>
        </p:blipFill>
        <p:spPr>
          <a:xfrm>
            <a:off x="281160" y="1292400"/>
            <a:ext cx="8581680" cy="386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(5502 и 5505)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- ЗАПОЛНЯТЬ!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Форма 30, таблица 5503</a:t>
            </a:r>
            <a:br>
              <a:rPr sz="36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«посмертные патологоанатомические исследования (вскрытия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8560" y="191592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олняется строго на основе проведе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атологоанатомических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вскрыти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разбивкой по категориям сложности: на мониторинге МЗ ЗК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аз № 601 от 06.12.2017 г. «О совершенствовании организации посмертного патологоанатомического исследования (вскрытия) в медицинских организациях Забайкальского края» - утверждён перечень категорий сложности патологоанатомических вскры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79280" y="260280"/>
          <a:ext cx="8721720" cy="6621480"/>
        </p:xfrm>
        <a:graphic>
          <a:graphicData uri="http://schemas.openxmlformats.org/drawingml/2006/table">
            <a:tbl>
              <a:tblPr/>
              <a:tblGrid>
                <a:gridCol w="4184640"/>
                <a:gridCol w="514440"/>
                <a:gridCol w="515880"/>
                <a:gridCol w="488880"/>
                <a:gridCol w="489240"/>
                <a:gridCol w="487080"/>
                <a:gridCol w="490680"/>
                <a:gridCol w="485640"/>
                <a:gridCol w="106524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ы на сроке менее 22 недель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0" name="Oval 178"/>
          <p:cNvSpPr/>
          <p:nvPr/>
        </p:nvSpPr>
        <p:spPr>
          <a:xfrm>
            <a:off x="4427640" y="2060640"/>
            <a:ext cx="360360" cy="288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9"/>
          <p:cNvSpPr/>
          <p:nvPr/>
        </p:nvSpPr>
        <p:spPr>
          <a:xfrm>
            <a:off x="4427640" y="2421000"/>
            <a:ext cx="36036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0"/>
          <p:cNvSpPr/>
          <p:nvPr/>
        </p:nvSpPr>
        <p:spPr>
          <a:xfrm flipV="1">
            <a:off x="4427640" y="6524640"/>
            <a:ext cx="369720" cy="333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1"/>
          <p:cNvSpPr/>
          <p:nvPr/>
        </p:nvSpPr>
        <p:spPr>
          <a:xfrm>
            <a:off x="4427640" y="5877000"/>
            <a:ext cx="36036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БЛАГОВРЕМЕННО сверить данные по вскрытиям с         ПАТОЛОГОАНАТОМАМИ !!!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484280"/>
          <a:ext cx="8229600" cy="51814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229600" cy="51022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Таблица 2402 – умершие на до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836640"/>
          <a:ext cx="8785440" cy="5789520"/>
        </p:xfrm>
        <a:graphic>
          <a:graphicData uri="http://schemas.openxmlformats.org/drawingml/2006/table">
            <a:tbl>
              <a:tblPr/>
              <a:tblGrid>
                <a:gridCol w="1297080"/>
                <a:gridCol w="828720"/>
                <a:gridCol w="1063440"/>
                <a:gridCol w="1062360"/>
                <a:gridCol w="1063440"/>
                <a:gridCol w="1062000"/>
                <a:gridCol w="1111320"/>
                <a:gridCol w="1297080"/>
              </a:tblGrid>
              <a:tr h="67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ологоанато-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з графы 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о-медицин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шие на дому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де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спос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числа умерших на дому: пациенты трудоспособного возраста* умерли от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х цереброваскуля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х заболевание (160-164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строго инфаркта миокарда (1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3-02; 8-914-490-90-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ий сектор (г. Чита) – Золотухина Анастасия Олег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2-98; 8-914-464-71-54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каменское ПаО – Шлапаков Вадим Викторович и Плакущая Надежда Владими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02-34-94; 8-914-145-23-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79280" y="620640"/>
          <a:ext cx="8785440" cy="592452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836640"/>
          <a:ext cx="8713800" cy="583704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Форма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«Прижизненные патологоанатомические исследования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прижизненных патологоанатомических и цитологических диагностических исследований по категориям сложности»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57120" y="1195560"/>
          <a:ext cx="8358120" cy="560700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440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9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0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14200" y="714240"/>
          <a:ext cx="8715600" cy="608832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7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Line 91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2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3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8-12-20T08:33:40Z</dcterms:modified>
  <cp:revision>68</cp:revision>
  <dc:subject/>
  <dc:title>Слайд 1</dc:title>
</cp:coreProperties>
</file>