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F4A1-6A1A-421B-AE9D-668561DC714B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D87F-4162-4270-877E-1AFA46031F3A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6886-40D4-4E32-BBA7-267CCD557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9210-89FA-4AC0-AC11-EBB2FF2A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EA84-9EA2-4E99-901A-EF361DB9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424C-DCF0-4AF0-AAD5-7FF7D487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0742-19A7-4DA5-BE6C-C70FACFB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A723-5D42-4ECF-8F2E-99E3B4C9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2405-7BF6-4F05-88CB-595BBC0A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4591-482C-410E-970C-2CECEDF4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754D-D6E7-4DAA-8EB6-1D920F93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BD8F-F27D-46D4-87ED-862B3715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223B-492F-44D4-899E-D804D367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943A-C293-42A3-A35C-E6CADBEF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C945-2A86-49EA-9F1B-98C089100EB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ndchita.ru/" TargetMode="External"/><Relationship Id="rId3" Type="http://schemas.openxmlformats.org/officeDocument/2006/relationships/hyperlink" Target="http://www.kndchita.ru/" TargetMode="External"/><Relationship Id="rId4" Type="http://schemas.openxmlformats.org/officeDocument/2006/relationships/hyperlink" Target="http://www.kndchita.ru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821120" y="5122800"/>
            <a:ext cx="43228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А. Бу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еститель главного врач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ОМР ГАУЗ «Забайкальский краевой наркологический диспанс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64960" y="1720800"/>
            <a:ext cx="8520120" cy="41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12800" y="1915560"/>
            <a:ext cx="78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5" descr="i?id=276645700-65-72&amp;n=21"/>
          <p:cNvPicPr/>
          <p:nvPr/>
        </p:nvPicPr>
        <p:blipFill>
          <a:blip r:embed="rId2"/>
          <a:stretch/>
        </p:blipFill>
        <p:spPr>
          <a:xfrm>
            <a:off x="441360" y="264960"/>
            <a:ext cx="1119240" cy="10335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264960" y="1219320"/>
            <a:ext cx="8520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тче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о формам федерального статистического наблюде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№ </a:t>
            </a: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37 и №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817560"/>
            <a:ext cx="8350200" cy="62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сновные принципы формирования т. 2100 ф. №37 с 2016 года изменены в соответствии с новым Порядком диспансерного наблюд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чиная с 2016 отчетного года в таблице 2100 ф. № 37 следует показывать только тех пациентов, которые состоят под диспансерным наблюдением у врача психиатра-наркол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4 т. 21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ется число наркологических пациентов, которые были взяты под ДН в течение отчетного г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циенты с впервые в жизни установленным диагнозом наркологического расстрой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веденные из других наркологических организа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овь обратившиеся с обострением  наркологического заболевания или иными причин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51AC-F022-4D82-9CAB-0BE69F7379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457200" y="0"/>
            <a:ext cx="82296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ации по составлению т. 2100 ф. № 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851040"/>
            <a:ext cx="8350200" cy="60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6 т. 21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сведения о пациентах, снятых с  ДН по причин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твержденная стойкая ремисс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возможность обеспечить осмотр пациента, несмотря на все принимаемые меры, в течение 1 г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мерть пациен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уждение пациента к лишению свободы на срок свыше 1 г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менение постоянного места жительства с выездом за пределы обслуживаемой территор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исьменного отказа пациента от Д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7838-A194-40FF-9769-540453CDBD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457200" y="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ации по составлению т. 2100 ф. № 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851040"/>
            <a:ext cx="8350200" cy="60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очные алгоритмы проверки остаются без изменения по сравнению с 2015 годом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горитм межгодовой проверки по стр. 1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.8 стр.11 2016 г. + гр.4 стр.11 2017 г. – гр.6 стр.11 2017 г. = гр.8 стр.11 2017 г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577E-7A35-404A-A500-BC80AAC330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457200" y="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ации по составлению т. 2100 ф. № 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938160"/>
            <a:ext cx="8350200" cy="59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лать с пациентами, которые на конец 2015 г. находились на проф. учете с диагнозом «пагубное употребление», не были осмотрены (сняты) в течение 2016 г. и были включены в гр.8 т. 2100 2016 г.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ы следующие вариа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не явился на осмотр в 2017 г., снимается с наблюдения по одной из причин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 гр.6 т. 2100 (снятые) не показывае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осмотрен в 2017 г. и дал согласие на ДН. Взят под ДН, включается в гр. 4 т.2100 (впервые в данном году) и в гр.8 т. 2100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не включается в гр. 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Пациент осмотрен в 2017 г., но не дал согласие на ДН.        Пациент снимается с учета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 гр. 6 (снятые) не показы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F02A-C935-4BFA-AB56-D312DEF0C2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ижний колонтитул 6"/>
          <p:cNvSpPr/>
          <p:nvPr/>
        </p:nvSpPr>
        <p:spPr>
          <a:xfrm>
            <a:off x="317196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457200" y="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ации по составлению т. 2100 ф. № 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938160"/>
            <a:ext cx="8350200" cy="59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а межформенная проверка т.20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№ 11 и т.2100 ф.№ 3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ациентов с впервые в жизни установленным диагнозом наркологического расстройства в т. 2000 ф. №11 по соответствуюшим диагностическим группам больше (на малых цифрах может быть равенство) числа пациентов, взятых под ДН (гр. 5 т. 21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 № 37)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70CE-D275-495B-8C6B-154E30D2A7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ижний колонтитул 6"/>
          <p:cNvSpPr/>
          <p:nvPr/>
        </p:nvSpPr>
        <p:spPr>
          <a:xfrm>
            <a:off x="317196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457200" y="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менение ранее действующих алгоритмов проверок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47440"/>
            <a:ext cx="8350200" cy="41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и движение пациентов, находящихся под ДН в стр. 6.1. ф. № 12, должно полностью соответствовать движению в таблице 2100 ф. № 37 !!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811A-BBAD-4F14-80A2-2C76970FD1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ижний колонтитул 6"/>
          <p:cNvSpPr/>
          <p:nvPr/>
        </p:nvSpPr>
        <p:spPr>
          <a:xfrm>
            <a:off x="317196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57200" y="0"/>
            <a:ext cx="822960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показывать пациент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оящих под ДН в ф. № 12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0" y="0"/>
            <a:ext cx="9144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f0000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bf0000"/>
                </a:solidFill>
                <a:latin typeface="Arial"/>
              </a:rPr>
              <a:t>Контакты:</a:t>
            </a:r>
            <a:r>
              <a:rPr b="1" lang="ru-RU" sz="4800" spc="-1" strike="noStrike">
                <a:solidFill>
                  <a:srgbClr val="b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ail: OMR-KND@yande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. 23-96-2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0" y="2619360"/>
            <a:ext cx="9144000" cy="39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4800" spc="-1" strike="noStrike">
                <a:solidFill>
                  <a:srgbClr val="bf0000"/>
                </a:solidFill>
                <a:latin typeface="Arial"/>
              </a:rPr>
              <a:t>Официальный сайт</a:t>
            </a:r>
            <a:br>
              <a:rPr sz="4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ГАУЗ «Забайкальский краевой наркологический диспансер»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nd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hita</a:t>
            </a: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528480" y="961920"/>
            <a:ext cx="799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bf0000"/>
                </a:solidFill>
                <a:latin typeface="Times New Roman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bf0000"/>
                </a:solidFill>
                <a:latin typeface="Times New Roman"/>
              </a:rPr>
              <a:t>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bolnica"/>
          <p:cNvPicPr/>
          <p:nvPr/>
        </p:nvPicPr>
        <p:blipFill>
          <a:blip r:embed="rId2"/>
          <a:stretch/>
        </p:blipFill>
        <p:spPr>
          <a:xfrm>
            <a:off x="2759040" y="3930480"/>
            <a:ext cx="357516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176040" y="144360"/>
            <a:ext cx="829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Благодарим!</a:t>
            </a: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339840" y="1771560"/>
            <a:ext cx="8483400" cy="45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дицинские организации здравоохранения, подведомственные Министерству здравоохранения Забайкальского края, отчеты которых в наибольшей степени удовлетворили требованиям составления ф.№ 11 и № 37 за 2016 г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Агин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Читин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Александрово-Завод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Калган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Калар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АУЗ «Краевая больница № 4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Забайкаль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Оловяннин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352440" y="176040"/>
            <a:ext cx="850104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Ошибки! Ошибк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По стат. форме № 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Таблица 2100 «Контингенты пациентов, находящихся под наблюдением психиатра-нарколога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200 «Деятельность врачей, осуществляющих амбулаторную помощь пациентам наркологического профи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170 «Контингенты пациентов, проходивших обязательное или альтернативное амбулаторное лечение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500 «Наркологическое освидетельствование» (разница с формой № 30, табл. 251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По стат. форме №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Таблица 4000 «Обследование зарегистрированных пациентов на наличие гемоконтактных инфекци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5920" y="23328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Актуальные формы ФСН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Новый Порядок диспансерного наблюдения пациентов наркологического профи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256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ФСН утверждены приказом Росст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№ 410 от 16.10.2013 г. (формы № 11 и № 37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2016 году формы были адаптированны с учетом Приказа Минздрава России № 1034 от 13 декабря 2015 года, регламентирующего Порядок оказания медицинской помощи по профилю «психиатрия-наркология» и Порядок диспансерного наблюдения за лицами с психическими расстройствами и (или) расстройствами поведения, связанными с употреблением психоактивны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E6C1-DCB8-4F24-85E5-CE144F646A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324000"/>
            <a:ext cx="8075520" cy="44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нимание!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5920" y="1042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орядок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ансерного наблюдения за ли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сихическими расстройствами и (или) расстройствами поведения, связанными с употреблением психоактивных веществ, утвержденный Приказом № 1034 Минздрава России от 13 декабря 2015 го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ил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концепци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блюдения за пациентами с наркологическими расстройств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нятия «профилактическое наблюдение», «профилактический учет», «профилактическая группа» в новом Порядке отсутствую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пансерное наблюдение организуется как для пациентов с диагнозом «Синдром зависимости» (код заболевания по МКБ-106 – F1x.2), так и для пациентов с другими наркологическими расстройствами, включая  группу пациентов с диагнозом  «пагубное употребление ПАВ» (код заболевания по МКБ-10 – F1x.1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пансерное наблюдение организуется только при наличии добровольного информированного согласия пациента в письменной фор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кратились сроки  прекращения диспансерного наблюд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E788-C530-4884-8EB3-87ACA2D90D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7360" y="232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Форма №11</a:t>
            </a:r>
            <a:br>
              <a:rPr sz="3600"/>
            </a:br>
            <a:r>
              <a:rPr b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«Сведения о заболеваниях наркологическими расстройствами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4014360"/>
            <a:ext cx="8229600" cy="21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1 имеет в своем составе 3 таб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5"/>
          <p:cNvSpPr/>
          <p:nvPr/>
        </p:nvSpPr>
        <p:spPr>
          <a:xfrm>
            <a:off x="6643800" y="61437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666A-2CB1-4A39-A1DF-61685FEB26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ации по составлению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945720"/>
            <a:ext cx="8229600" cy="51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осуществляется при первом в данном году обращении пациента за наркологической помощью (ф.№ 030-1/у-02, ф. № 025-1/у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000 сведения показываются обо всех пациентах наркологического профиля, которым в течение отчетного года была оказана амбулаторная лечебная, консультативно-лечебная, реабилитационная помощ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обенности регистр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пациент в течение  отчетного года может быть зарегистрирован только с одним наркологическим заболеванием и только один раз показан в ф. № 11 (по заключительному диагноз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5"/>
          <p:cNvSpPr/>
          <p:nvPr/>
        </p:nvSpPr>
        <p:spPr>
          <a:xfrm>
            <a:off x="6643800" y="61437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DC1A-7476-4042-855C-D783AD0C7A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7360" y="23292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бследование зарегистрированных </a:t>
            </a:r>
            <a:br>
              <a:rPr sz="2800"/>
            </a:b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ациентов на наличие гемоконтактных инфекций (т. 4000 ф. № 11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52760"/>
            <a:ext cx="82296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ациенты, обратившиеся в течении года за амбулаторной наркологической помощью, должны быть обследованы на ВИЧ, гепатит С и гепатит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ИЧ-позитивные пациенты, находящиеся под диспансерным наблюдением в наркологическом учреждении, но по каким – либо причинам не были обследованы в отчетном году,  также должны быть показаны в т. 4000 ф. №11 как ВИЧ-позитивн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омер слайда 5"/>
          <p:cNvSpPr/>
          <p:nvPr/>
        </p:nvSpPr>
        <p:spPr>
          <a:xfrm>
            <a:off x="6643800" y="61437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14B0-0A2D-4B24-99A4-EEAAD01AFF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Форма № 37</a:t>
            </a:r>
            <a:br>
              <a:rPr sz="3600"/>
            </a:br>
            <a:r>
              <a:rPr b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«Сведения о пациентах, больных алкоголизмом, наркоманиями, токсикоманиями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425124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37 (20 табли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023D-1E20-40FC-B44A-414956B264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/>
  <dc:description>PresentationLoad.com</dc:description>
  <dc:language>en-US</dc:language>
  <cp:lastModifiedBy>Admin</cp:lastModifiedBy>
  <dcterms:modified xsi:type="dcterms:W3CDTF">2017-12-12T02:42:05Z</dcterms:modified>
  <cp:revision>194</cp:revision>
  <dc:subject/>
  <dc:title>PowerPoint Template</dc:title>
</cp:coreProperties>
</file>